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9468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2320" y="2209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9468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2320" y="42001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1143000"/>
            <a:ext cx="6629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001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001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497640" y="6324480"/>
            <a:ext cx="238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 </a:t>
            </a:r>
            <a:fld id="{80745434-C377-4712-A9DE-4590019205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24480"/>
            <a:ext cx="411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9900"/>
                </a:solidFill>
                <a:latin typeface="Arial"/>
              </a:rPr>
              <a:t>COPYRIGHT 2002   RICOCHET NETWORK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457200" y="103320"/>
            <a:ext cx="1447920" cy="36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4560" y="0"/>
            <a:ext cx="6859440" cy="4572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 flipV="1">
            <a:off x="2286000" y="-360"/>
            <a:ext cx="0" cy="76212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0" y="762120"/>
            <a:ext cx="59436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124440" cy="787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351600" y="316404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Unicode MS"/>
              </a:rPr>
              <a:t>HIGH-SPEED WIRE-FREE INTERNET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1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hn Griebling, CT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bruary 14, 200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cochet 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spent $1.3 B to develop technology, deploy network in 21 major markets and obtain 51,000 custom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 filed bankruptcy and shut down network in August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icochet Networks, a subsidiary of Aerie Networks, Inc. purchased all intellectual property and certain assets of the Ricoche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Unicode MS"/>
              </a:rPr>
              <a:t>TM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Micro Cellular Data Network for $8.25 MM in November 2001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417672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004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Components of Success (and Fail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4" name="pole" descr="[Ricochet Cellular Network]"/>
          <p:cNvPicPr/>
          <p:nvPr/>
        </p:nvPicPr>
        <p:blipFill>
          <a:blip r:embed="rId2"/>
          <a:stretch/>
        </p:blipFill>
        <p:spPr>
          <a:xfrm>
            <a:off x="4419720" y="3971880"/>
            <a:ext cx="411480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50320" y="3657600"/>
            <a:ext cx="35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 Unicode MS"/>
              </a:rPr>
              <a:t>Ricochet  Micro Cellular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tricom’s strength was technology development and engineer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engineer existing network infrastructure and systems for more streamlined operation, provisioning and customer 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technology development to expand product offering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ystem upgrades to improve throughput (2X and beyond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upgrades to provide hybrid use capabilities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/802.11 x; Ricochet/GPRS; Ricochet/CDP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odem chipset for embedded applica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icochet broadband gateway (RBG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29400" y="4876560"/>
            <a:ext cx="2212920" cy="1339560"/>
            <a:chOff x="6629400" y="4876560"/>
            <a:chExt cx="2212920" cy="13395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6629400" y="5257800"/>
              <a:ext cx="221292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7260840" y="4876560"/>
              <a:ext cx="593640" cy="55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48440" y="5516280"/>
              <a:ext cx="4395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icoch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CMCI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0800" y="5538600"/>
              <a:ext cx="4230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PR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engineer operational, pricing and distribution mod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arget deployment to most attractive are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store service quickly to select market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xpand to markets underserved by broadband provid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public/private partnerships to lower infrastructure cos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deploy idle capital assets into revenue generating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tablish foundation for long term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scalable business growth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build customer value pro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osition Ricochet br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-price service to end us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and sell through multiple distribution channel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public/private partners with municipal and utility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ong PR and co-op marketing progra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477120" y="4343400"/>
            <a:ext cx="2133360" cy="1900080"/>
            <a:chOff x="6477120" y="4343400"/>
            <a:chExt cx="2133360" cy="1900080"/>
          </a:xfrm>
        </p:grpSpPr>
        <p:sp>
          <p:nvSpPr>
            <p:cNvPr id="108" name=""/>
            <p:cNvSpPr/>
            <p:nvPr/>
          </p:nvSpPr>
          <p:spPr>
            <a:xfrm>
              <a:off x="6477120" y="4343400"/>
              <a:ext cx="2133360" cy="1900080"/>
            </a:xfrm>
            <a:prstGeom prst="cube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twork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Market Partn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stribution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Direct Online S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77120" y="519696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143560" y="473688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77120" y="552528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143560" y="5065560"/>
              <a:ext cx="466560" cy="45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77120" y="5853600"/>
              <a:ext cx="166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143560" y="5393520"/>
              <a:ext cx="466560" cy="459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7080" y="4343400"/>
              <a:ext cx="1280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 Unicode MS"/>
                </a:rPr>
                <a:t>ANATOMY OF A  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114300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y A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everage technolog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velop scalable operating platfo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pitalize on precise market selec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cel at marketing through oth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novate through partnership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 Unicode MS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reate and deliver value to users, partners and the Compan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4419720"/>
            <a:ext cx="1676520" cy="16761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15962" y="7015"/>
                </a:moveTo>
                <a:arcTo wR="-6401" hR="-6401" stAng="-2174711" swAng="-19131873"/>
                <a:lnTo>
                  <a:pt x="39" y="9879"/>
                </a:lnTo>
                <a:arcTo wR="10800" hR="10800" stAng="-10506584" swAng="19131873"/>
                <a:lnTo>
                  <a:pt x="-88" y="18782"/>
                </a:lnTo>
                <a:lnTo>
                  <a:pt x="967" y="11934"/>
                </a:lnTo>
                <a:lnTo>
                  <a:pt x="7815" y="12988"/>
                </a:lnTo>
                <a:close/>
              </a:path>
            </a:pathLst>
          </a:cu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44360" y="510552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 Unicode MS"/>
              </a:rPr>
              <a:t>hindsight is 20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22:30:21Z</dcterms:created>
  <dc:creator>Michael Roberts</dc:creator>
  <dc:description/>
  <dc:language>en-US</dc:language>
  <cp:lastModifiedBy>administrator</cp:lastModifiedBy>
  <cp:lastPrinted>2000-01-12T04:42:47Z</cp:lastPrinted>
  <dcterms:modified xsi:type="dcterms:W3CDTF">2002-02-14T15:20:39Z</dcterms:modified>
  <cp:revision>510</cp:revision>
  <dc:subject/>
  <dc:title>No Slide Title</dc:title>
</cp:coreProperties>
</file>