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E2748-2BB4-4455-A2E8-E2EC33BDE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7C1C6-16CA-41B3-9F4A-15C8F264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D3A04-3CAC-47B3-94AF-980CD565F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27255-7E3A-44BD-B6B0-670E9FC57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CE01-8B35-4078-98A4-5121263A1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1817-E3CB-4FE7-8D89-DAF5F43F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AFEC-4E36-4107-9BAC-D229E9CE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2B92-3D97-4434-A3FD-85136678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BAF8A-D26F-46C5-AFD7-C7E83875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649C-3867-40CD-8CF8-5DA1CC7C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E1FD-B23E-4406-AF20-A4A783DB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1EDE9-5301-4BCE-A452-7BE80FC5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F384-2D36-4BB7-91FC-BDCB1539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5F86-06B8-4F54-A58F-09027D6D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CBCBF-8428-4D19-AD9C-D83181A7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9B3F-9F4A-4353-BD8F-A6EAD0655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0A63-AD5D-42C2-8AA2-CBD689E5E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AA551-4A58-4169-B0E4-9E7D9504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DCD18-07E5-4EC5-8A8A-CA3E162F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1E505-4174-4DF3-A0E9-63B789DC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1274C-81F8-4FDD-AB29-CD481F36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AD63C-F953-4F44-997B-D630C555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01144-00B9-4EB1-BB71-65F1FD22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31DE6-376B-495E-9B29-06A2CFC7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2FDE-4045-4F12-ABFD-4745285273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4AF6-6EF4-44A8-91FF-FD610039B6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apertonet.com/index.htm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hyperlink" Target="http://www.axxcelera.com/index.htm" TargetMode="External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Unlicensed Multipoint Operation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I Band: Reliability, Interference and Economic Vi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62120" y="5562720"/>
            <a:ext cx="3809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bert A. Campb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campbell@nscg.b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urban Mar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as where infrastructure is limi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side the DSL areas and access to copper or fiber is limi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business centers that need connectivity ab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of the “underserved” area cl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ill, vertical services would increase the penetration into market (VoIP, VPN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ss to rooftops and/or towers at lower 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ral Mar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 of wireless equipment doesn’t require high-density of population, but minimums needed to satisfy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Town USA” needs bandwid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argue it is needed here more because of a lack of access to metro market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ge of equipment can present coverage problems for UNII deploy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pite this, success stories exist in “one-stoplight” tow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CC report:  Broadband = &gt;200Kb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ximately 9.6 million high-speed subscribers as of June 30, 2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50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crease since the FCC released it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econd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6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crease during the first half of 2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8 Million (of 9.6 Million) subscribers are residential or small 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04920" y="647712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www.fcc.gov/Bureaus/Common_Carrier/News_Releases/2002/nrcc0201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news for fixed wirel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-speed lines in service over satellite or fixed wireless technologies increased at the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astest r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3%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uring the first half of 2001, to nearly 200,000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04920" y="647712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www.fcc.gov/Bureaus/Common_Carrier/News_Releases/2002/nrcc0201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I Band equipment can and does provide more than adequate service and transport of advanced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trum is not that crowded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size is still small, penetration rates growing rapid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ntastic opportunities for those who plan and execute 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l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es it me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time 99.999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5 minutes downtime each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rating in spite of weather, environmental or other characteristic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does it just simply work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648320" y="1600200"/>
            <a:ext cx="4038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3"/>
          <a:stretch/>
        </p:blipFill>
        <p:spPr>
          <a:xfrm>
            <a:off x="4572000" y="2590920"/>
            <a:ext cx="44197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99.999%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lates roughly to 5 minutes 15 seconds of downtime per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’s 6 SECOND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have a single outage of 2 hours, you will need 100% uptime for the next 23 years to achieve 99.999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achievable? Mayb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Idea?  Absolut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:  This is an ideal goal that is rarely met, but striving to meet it provides great benef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ot of issues can be out of your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UNII and the Environm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I band, outdoors, frequency range 5.25GHz-5.35GHz and 5.725GHz-5.825G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ow 6GHz water and other weather phenomenon are not a conc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n FCC regulations limit an effective transmission range to approximately 7 miles, curvature of the earth is generally not a conc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ning is one of our biggest concerns along with improperly terminated cables (which can be affected by weath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tom Line: The Environment can be manag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fere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F Interference or Electromagnetic Interference (EM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ge impact on rel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I Band – 200MHz of spectru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M 2.4GHz – 83.5 MHz of spect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equipment available has sufficient channel plans to allow for multiple operators in the same RF space – the channe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ment vendors are beginning to build interference mitigation into their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know what you’re sending and have a good idea on what you’re to receive, then block anything 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fere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02.11a – new kid on the bl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target:  Indoor Wireless LAN, could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indoor-only frequencies (5.15GHz – 5.25GHz) along with 5.25GHZ-5.35G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 the network, survey the RF landscape, document your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al recourse for malicious interference, but no recourse for other inter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 to the equipment’s ability to reject interference as the landscape crow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4"/>
          <a:stretch/>
        </p:blipFill>
        <p:spPr>
          <a:xfrm>
            <a:off x="7238880" y="838080"/>
            <a:ext cx="1447920" cy="12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oes it work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viously, YES!  You’re here aren’t you?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ipping equipment with deployments and real world feedback have shown that equipment vendors are putting out quality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" descr="Back to hom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24480" y="2743200"/>
            <a:ext cx="1295640" cy="46656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5"/>
          <a:stretch/>
        </p:blipFill>
        <p:spPr>
          <a:xfrm>
            <a:off x="4952880" y="4495680"/>
            <a:ext cx="1473480" cy="52704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19920" y="3581280"/>
            <a:ext cx="1904760" cy="33336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8"/>
          <a:stretch/>
        </p:blipFill>
        <p:spPr>
          <a:xfrm>
            <a:off x="7010280" y="4495680"/>
            <a:ext cx="1863720" cy="4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conomic 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able mod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ban:  Augmenting Fiber as it isn’t in every buil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urban: Where is the business?  Underserved?  Extending the Urban reach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ral:  Difficult due to ranges of equipment, but more cost effective in low density markets than anything el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Know what you’re getting int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ban Mar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umbent Fiber and copper-based carri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umbent DSL, Cable Modem and low-cost point-to-point DS1/DS3 conne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cost of operations related to rooftops/tower leasing – permitting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nering is one ans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 of vertical services is key to maintaining value propo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5029200" y="266688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9T00:59:03Z</dcterms:created>
  <dc:creator>Robert A. Campbell</dc:creator>
  <dc:description/>
  <dc:language>en-US</dc:language>
  <cp:lastModifiedBy>Robert A. Campbell</cp:lastModifiedBy>
  <dcterms:modified xsi:type="dcterms:W3CDTF">2002-02-10T17:30:39Z</dcterms:modified>
  <cp:revision>14</cp:revision>
  <dc:subject/>
  <dc:title>Unlicensed Multipoint Oper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