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C251-5CA7-4793-A719-E58651CF7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William Carney</cp:lastModifiedBy>
  <cp:lastPrinted>1999-04-13T20:20:45Z</cp:lastPrinted>
  <dcterms:modified xsi:type="dcterms:W3CDTF">2002-02-08T19:54:36Z</dcterms:modified>
  <cp:revision>74</cp:revision>
  <dc:subject>Broadband Wireless Forum</dc:subject>
  <dc:title>WLAN chipsets for WWAN</dc:title>
</cp:coreProperties>
</file>