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46AA8-A2C7-4645-8704-4CD2C2CC2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4D3BB-CE53-492B-93D2-01F0F2866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1BA46-8358-420D-9EE8-AFC091E88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42F14-2CE3-4650-B98C-FEF04F4C4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541F5-F1F4-4732-8E8A-28E57D8F2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E269E-1B55-40B6-A6A3-1923413D0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E0650-1264-422D-A47E-282A014758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8FE6D-4AD3-4D4D-848F-8D0BB0778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D758F-BC2F-4055-B286-47525594E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D0286-2E11-4E1B-8D06-138CC5B01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AA824-4D9E-48BB-A62C-6519AFE58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A55B7-8FF4-40EB-8CB2-88F59611E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1120" y="6315120"/>
            <a:ext cx="777852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39960"/>
            <a:ext cx="289584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22920" y="6491160"/>
            <a:ext cx="179712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BA38-5CA7-45A0-9951-E88E4CD95335}" type="slidenum">
              <a:rPr b="0" i="1" lang="en-US" sz="1200" spc="-1" strike="noStrike">
                <a:solidFill>
                  <a:srgbClr val="3366cc"/>
                </a:solidFill>
                <a:latin typeface="Arial Condense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33440" y="687240"/>
            <a:ext cx="84240" cy="3316320"/>
            <a:chOff x="433440" y="687240"/>
            <a:chExt cx="84240" cy="3316320"/>
          </a:xfrm>
        </p:grpSpPr>
        <p:sp>
          <p:nvSpPr>
            <p:cNvPr id="8" name=""/>
            <p:cNvSpPr/>
            <p:nvPr/>
          </p:nvSpPr>
          <p:spPr>
            <a:xfrm rot="16200000">
              <a:off x="-1176840" y="2307240"/>
              <a:ext cx="3314880" cy="7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433440" y="692280"/>
              <a:ext cx="0" cy="3311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65200" y="1187280"/>
            <a:ext cx="78040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ogo%20med" descr=""/>
          <p:cNvPicPr/>
          <p:nvPr/>
        </p:nvPicPr>
        <p:blipFill>
          <a:blip r:embed="rId2"/>
          <a:stretch/>
        </p:blipFill>
        <p:spPr>
          <a:xfrm>
            <a:off x="7310520" y="309600"/>
            <a:ext cx="1442880" cy="5619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596880" y="64371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4780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3"/>
          </p:nvPr>
        </p:nvSpPr>
        <p:spPr>
          <a:xfrm>
            <a:off x="3117600" y="6324480"/>
            <a:ext cx="2895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1120" y="2540160"/>
            <a:ext cx="7778520" cy="74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%20med" descr=""/>
          <p:cNvPicPr/>
          <p:nvPr/>
        </p:nvPicPr>
        <p:blipFill>
          <a:blip r:embed="rId2"/>
          <a:stretch/>
        </p:blipFill>
        <p:spPr>
          <a:xfrm>
            <a:off x="6138720" y="254160"/>
            <a:ext cx="2262240" cy="88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6880" y="6437160"/>
            <a:ext cx="307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5744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Non Line-of-Sight in Microwave Band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1160" y="4235040"/>
            <a:ext cx="64008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Palatino"/>
              </a:rPr>
              <a:t>Multicell Network Architectur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Metro Coverage Design Exampl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3000" y="1277640"/>
            <a:ext cx="34542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torized cellular layou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ements m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LOS cover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quency reus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r this mark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 existing sit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o new constru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70520" y="1278000"/>
            <a:ext cx="42796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008EB-D643-4391-83DD-73C5999A67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Cellular Reuse Analysi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08160" y="1328760"/>
            <a:ext cx="2946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 RF channels, scalable cellular coverage &amp; 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-building, user installable CP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ell area &gt; PC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ost users capable of higher-order modul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8160" y="1332000"/>
          <a:ext cx="5000760" cy="42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32000"/>
                    <a:ext cx="500076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30560" y="5205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87600" y="4673160"/>
            <a:ext cx="3556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155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73400" y="4203720"/>
            <a:ext cx="8892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1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55440" y="3530160"/>
            <a:ext cx="1652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D5918-B04A-4BF4-8CA7-3DDE14ED90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Adaptive Modulation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1270080"/>
            <a:ext cx="756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27280" y="1422360"/>
          <a:ext cx="6210360" cy="2282760"/>
        </p:xfrm>
        <a:graphic>
          <a:graphicData uri="http://schemas.openxmlformats.org/drawingml/2006/table">
            <a:tbl>
              <a:tblPr/>
              <a:tblGrid>
                <a:gridCol w="1000080"/>
                <a:gridCol w="1222200"/>
                <a:gridCol w="1339920"/>
                <a:gridCol w="1487520"/>
                <a:gridCol w="1160640"/>
              </a:tblGrid>
              <a:tr h="100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OFDM Subcarrier Modulations Sup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Average available transmit rate, bps/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QP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6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64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Down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Up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1480" y="4406760"/>
            <a:ext cx="711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0880" y="3889440"/>
            <a:ext cx="689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NLOS C/(N+I) analy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capacity increase with two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% capacity increase with thre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0960" y="3249720"/>
            <a:ext cx="41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23330-52EE-4883-8180-CE8968657E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 Black"/>
              </a:rPr>
              <a:t>Multiple Access with NLOS OFDM</a:t>
            </a: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83000" y="1641600"/>
          <a:ext cx="5124600" cy="32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3000" y="1641600"/>
                    <a:ext cx="51246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8960" y="1645920"/>
            <a:ext cx="283212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overhead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-switched,      random acc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utilization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stability in bursty data traffi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BBE13-555C-4781-81C1-AA9A0ACC1B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OFDM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2902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DM advant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mple equalization, no ISI in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atural fit for NLO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orts adaptive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reless wide-area OFDM syste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, LAN-lik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actical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CP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607DA-E036-44BC-81DA-C03E0F649C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ntact Informati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xtNet Wireless,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9555 James Ave. South, Suite 270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nneapolis, MN 55431  US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ww.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hone: 952-929-4008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-mail: info@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C1D24-2E6E-4FBB-85F8-1B89D181E9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Second Generation Goal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on–line of sight (NLOS)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ach all customers in coverage are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subscriber equipmen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oadband wide-area net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throughput &amp; multipl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 for residential and business u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fficient Frequency Reuse - Bits / Hz / Acre / $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lexible system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10EA2-8DE6-4EC8-8330-A3E52EA25E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roughput /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performance with low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le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lay spread –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LOS oper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lexity and cos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4CDE4-C49B-4F79-A71D-8CC7F6DD29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own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4E179-2215-4E93-B47E-408602812A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16400" y="151776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NLOS Throughput vs. Distanc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3600" y="1303200"/>
            <a:ext cx="318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gulator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per bound for throughput varies with distance from 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"/>
          <p:cNvSpPr/>
          <p:nvPr/>
        </p:nvSpPr>
        <p:spPr>
          <a:xfrm>
            <a:off x="4855680" y="2278080"/>
            <a:ext cx="11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0120" y="4286160"/>
            <a:ext cx="152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43520" y="263988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DM &amp;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8840" y="44308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13240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urban Path Loss Mod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EE54D-78BF-4B53-8B02-2DABD7543E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35160" y="1467000"/>
            <a:ext cx="5651640" cy="4190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Capacity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7800" y="1315800"/>
            <a:ext cx="30988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 capacity a function of cell size,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sign choices lead to different capacity and coverage characteristic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"/>
          <p:cNvSpPr/>
          <p:nvPr/>
        </p:nvSpPr>
        <p:spPr>
          <a:xfrm>
            <a:off x="5205960" y="21272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/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95240" y="3765600"/>
            <a:ext cx="9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ECE8A-D5CA-4EE0-9001-B4DA4397D0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7800" y="4809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</a:t>
            </a:r>
            <a:br>
              <a:rPr sz="3200"/>
            </a:b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verage/Capacity Comparis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211400" y="1943280"/>
            <a:ext cx="670860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89240" y="2043000"/>
            <a:ext cx="620064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3822840"/>
            <a:ext cx="317988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06840" y="3935520"/>
            <a:ext cx="193500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2238480"/>
            <a:ext cx="204768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62480" y="2224080"/>
            <a:ext cx="176364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2227320"/>
            <a:ext cx="17766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90680" y="2238480"/>
            <a:ext cx="2217600" cy="18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1581120"/>
            <a:ext cx="0" cy="33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6080" y="1582560"/>
            <a:ext cx="0" cy="5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9840" y="144144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2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58256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38000" y="1582560"/>
            <a:ext cx="114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3320" y="419112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4400" y="41922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09920" y="456552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- 2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1320" y="485136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– 3.5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84040" y="49798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32440" y="4979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14840" y="47070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1760" y="47070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440" y="206388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00" y="39495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207648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7280" y="3962520"/>
            <a:ext cx="9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240" y="3962520"/>
            <a:ext cx="9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76480"/>
            <a:ext cx="10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2560" y="5761080"/>
            <a:ext cx="2541600" cy="517680"/>
            <a:chOff x="682560" y="5761080"/>
            <a:chExt cx="2541600" cy="517680"/>
          </a:xfrm>
        </p:grpSpPr>
        <p:grpSp>
          <p:nvGrpSpPr>
            <p:cNvPr id="143" name=""/>
            <p:cNvGrpSpPr/>
            <p:nvPr/>
          </p:nvGrpSpPr>
          <p:grpSpPr>
            <a:xfrm>
              <a:off x="682560" y="5761080"/>
              <a:ext cx="2541600" cy="276480"/>
              <a:chOff x="682560" y="5761080"/>
              <a:chExt cx="2541600" cy="276480"/>
            </a:xfrm>
          </p:grpSpPr>
          <p:sp>
            <p:nvSpPr>
              <p:cNvPr id="144" name=""/>
              <p:cNvSpPr/>
              <p:nvPr/>
            </p:nvSpPr>
            <p:spPr>
              <a:xfrm>
                <a:off x="682560" y="5829480"/>
                <a:ext cx="317520" cy="150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09800" y="5761080"/>
                <a:ext cx="221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Directional 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5520" y="6002280"/>
              <a:ext cx="2210760" cy="276480"/>
              <a:chOff x="695520" y="6002280"/>
              <a:chExt cx="2210760" cy="276480"/>
            </a:xfrm>
          </p:grpSpPr>
          <p:sp>
            <p:nvSpPr>
              <p:cNvPr id="147" name=""/>
              <p:cNvSpPr/>
              <p:nvPr/>
            </p:nvSpPr>
            <p:spPr>
              <a:xfrm>
                <a:off x="695520" y="6070320"/>
                <a:ext cx="317160" cy="150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22400" y="6002280"/>
                <a:ext cx="188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Omni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197320" y="5456160"/>
            <a:ext cx="209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h Throughput (D/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/ .87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470 / .213 Mb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1905120"/>
            <a:ext cx="139680" cy="349200"/>
          </a:xfrm>
          <a:prstGeom prst="can">
            <a:avLst>
              <a:gd name="adj" fmla="val 12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5481720"/>
            <a:ext cx="167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1428840"/>
            <a:ext cx="18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 Antennas (52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59480" y="1552320"/>
            <a:ext cx="58572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20680" y="2228760"/>
            <a:ext cx="0" cy="22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0560" y="2222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1480" y="411480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8880" y="444024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ber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8F504-3861-47C5-9D79-F00BEAC207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OFDM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de area NLOS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pectrum Efficienc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ular reuse with limited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access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018D-2C6E-45DD-A497-747F753BA8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Wide-Area Coverage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7440" y="1277640"/>
            <a:ext cx="35686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mall town/rural syste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0 dBi omni base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3 dBi subscriber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asured link margin for QPSK OFD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Yellow             &gt;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d             15 to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ght blue   10 to 15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reen            5 to 10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98840" y="1697040"/>
            <a:ext cx="3841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CC32C-31DE-4946-9283-4C74A279AB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3:51:25Z</dcterms:created>
  <dc:creator>Eric Dunn</dc:creator>
  <dc:description>Presented at WCA 2002 conference, Jan 2002, San Jose, California</dc:description>
  <dc:language>en-US</dc:language>
  <cp:lastModifiedBy>Property of</cp:lastModifiedBy>
  <cp:lastPrinted>1999-10-14T16:22:24Z</cp:lastPrinted>
  <dcterms:modified xsi:type="dcterms:W3CDTF">2002-02-14T22:00:10Z</dcterms:modified>
  <cp:revision>439</cp:revision>
  <dc:subject/>
  <dc:title>Advantages of OFDM for Mixed Service Second Generation NLOS Broadband Wireless Access</dc:title>
</cp:coreProperties>
</file>