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18900-4354-4FD8-88A9-6D8F5A136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70551-359B-40EE-8DDD-0FD0580C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0E282-6F68-4D24-8318-9451B31B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BCE60-2529-4716-A487-B717BDF1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FC0BA-2A5F-40D1-A164-C7AF30F4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FB3D7-F04F-4E74-932C-C236897A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744E5-78A2-43A6-A463-C6B06984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90AD4-8ABF-45EA-BE7B-241B5D6B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50601-3787-433D-A59A-1A1D9729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1A432-5D3B-43F9-96F8-F41482C6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75DFD0-5798-415E-83DF-48FC1AE50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F82A56-7842-4CCC-A885-97B080049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SzPct val="80000"/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1974960" indent="-2192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1974960" indent="-2192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029200" y="609588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6548400"/>
          <a:ext cx="9144000" cy="30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548400"/>
                    <a:ext cx="9144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08FC-E9ED-4257-9F1C-9AFA89168E12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1371600"/>
            <a:ext cx="84582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The Reality of NLOS: Cost, Coverage and Capacity</a:t>
            </a:r>
            <a:br>
              <a:rPr sz="3600"/>
            </a:br>
            <a:br>
              <a:rPr sz="3600"/>
            </a:br>
            <a:r>
              <a:rPr b="1" lang="en-US" sz="3000" spc="-1" strike="noStrike">
                <a:solidFill>
                  <a:srgbClr val="333333"/>
                </a:solidFill>
                <a:latin typeface="Arial"/>
              </a:rPr>
              <a:t>Michael D. Greenbaum</a:t>
            </a:r>
            <a:br>
              <a:rPr sz="30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resident &amp; CEO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ybrid Networks, Inc.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ichael.greenbaum@hybrid.com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roadband Wireless World Forum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ebruary 12, 200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6000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INDUSTRY REQUIREMEN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 Second Generation Product: 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.  NLOS, 90% Coverag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.  Low-Cost CPE &lt; $500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3.  Self-Installabl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OPERATOR ROI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5410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Capital Expenditu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BBW vs. Cable, DSL, Satellit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Payback Period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arket Sha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ime to Market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rket Penetration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rket Expansion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venu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ARPU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iered Servic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COMPLETE SYSTEM SOLUTION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426672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Modulation/Coding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Performance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qualization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caling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High-Volume CPE Chips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Provisioning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ntennas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Network Management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791320" y="2286000"/>
          <a:ext cx="297180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2286000"/>
                    <a:ext cx="297180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04920" y="1828800"/>
          <a:ext cx="2286000" cy="223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828800"/>
                    <a:ext cx="2286000" cy="22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6" name=""/>
          <p:cNvGrpSpPr/>
          <p:nvPr/>
        </p:nvGrpSpPr>
        <p:grpSpPr>
          <a:xfrm>
            <a:off x="3830760" y="1981080"/>
            <a:ext cx="969840" cy="1836720"/>
            <a:chOff x="3830760" y="1981080"/>
            <a:chExt cx="969840" cy="1836720"/>
          </a:xfrm>
        </p:grpSpPr>
        <p:graphicFrame>
          <p:nvGraphicFramePr>
            <p:cNvPr id="97" name=""/>
            <p:cNvGraphicFramePr/>
            <p:nvPr/>
          </p:nvGraphicFramePr>
          <p:xfrm>
            <a:off x="3830760" y="3040200"/>
            <a:ext cx="969840" cy="777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30760" y="3040200"/>
                      <a:ext cx="96984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" name=""/>
            <p:cNvSpPr/>
            <p:nvPr/>
          </p:nvSpPr>
          <p:spPr>
            <a:xfrm>
              <a:off x="3983040" y="1981080"/>
              <a:ext cx="762120" cy="762120"/>
            </a:xfrm>
            <a:prstGeom prst="diamond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3500000"/>
            </a:gradFill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63920" y="2743200"/>
              <a:ext cx="0" cy="38088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 rot="10800000">
            <a:off x="2133360" y="2362320"/>
            <a:ext cx="15228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2361960" y="2438280"/>
            <a:ext cx="1522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0800000">
            <a:off x="320040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2819160" y="2590920"/>
            <a:ext cx="1522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2590560" y="2514600"/>
            <a:ext cx="1522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3047760" y="2666520"/>
            <a:ext cx="7596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5257440" y="2362320"/>
            <a:ext cx="15228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0800000">
            <a:off x="5486040" y="2438280"/>
            <a:ext cx="1522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632448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5943240" y="2590920"/>
            <a:ext cx="1522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714640" y="2514600"/>
            <a:ext cx="1522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617220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BEGIN WITH A PROVEN SYSTEM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cal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10,000 CPEs on One Base Sta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 2,000 CPEs in One Secto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 1 Mb/s Downstream on Fully Loaded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liabilit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w Field Failure Rate, &lt;0.25%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ailure Recover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utomatic Restart and Return to Servi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NEW PRODUCT FOCUS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High Volume Chipsets  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tandard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odulation: SC, OFDM, CDM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qualiz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ia Access Contro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visioning, Network Managem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versit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ADDRESSABLE MARKE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International and Domestic Market Size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40000"/>
              </a:lnSpc>
              <a:spcBef>
                <a:spcPts val="1500"/>
              </a:spcBef>
              <a:buClr>
                <a:srgbClr val="33333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arge - Layered System (up to 100,000 CPE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40000"/>
              </a:lnSpc>
              <a:spcBef>
                <a:spcPts val="1500"/>
              </a:spcBef>
              <a:buClr>
                <a:srgbClr val="33333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mall - Entry Level System (up to 2,000 CPE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26668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6000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ONCLUSIONS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velop a Second Generation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Build on a Proven Product Ba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ocus on Key Product Featur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LOS, 90% Coverag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w Cost CPE &lt;$500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lf-Installab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eeting Varying Market Siz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econd Generation Solution = Improved Operator ROI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20:40:28Z</dcterms:created>
  <dc:creator>TracyI</dc:creator>
  <dc:description/>
  <dc:language>en-US</dc:language>
  <cp:lastModifiedBy>TracyI</cp:lastModifiedBy>
  <cp:lastPrinted>2002-02-09T03:23:35Z</cp:lastPrinted>
  <dcterms:modified xsi:type="dcterms:W3CDTF">2002-02-09T04:53:59Z</dcterms:modified>
  <cp:revision>32</cp:revision>
  <dc:subject/>
  <dc:title>No Slide Title</dc:title>
</cp:coreProperties>
</file>