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35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8.wmf" ContentType="image/x-wmf"/>
  <Override PartName="/ppt/media/image33.jpeg" ContentType="image/jpeg"/>
  <Override PartName="/ppt/media/image5.wmf" ContentType="image/x-wmf"/>
  <Override PartName="/ppt/media/image38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EAD-9136-458F-AA4A-53E3059B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D8C-C45A-46B6-A48F-C45A4776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B61-9F65-49AC-99E0-678B8A52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2BA-4795-4514-910C-FABF1809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377C-2DC0-4F0C-A727-FCB08943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BAED-A6DB-4C1F-94BC-DAFF2008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9AD5-486D-4C1B-BBC6-3915A185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CCD6-BB41-4BB5-9259-BF05DECC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E731-DADD-493F-B57D-FCAE0142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2618-A2E2-4B43-A232-A6652658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FFB9-402A-493F-9A5F-F9C38DF0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841-3C08-4367-8F80-FBD7B971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1D7D-5FE5-4842-804C-87CDCB1D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4EED-FCE5-466A-A930-9163EA01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E5C2-8E13-44B5-9D50-428F56F3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BCE5-10DB-4F98-9662-EDCFDC58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4F0F-F1A7-48F7-A129-C9E31A7F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272-B34A-4B62-931A-0EF96376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053-D649-4C83-8528-67084985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407-27A7-4CDF-BB6A-73FA58A8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FDF-7DA2-4EBA-9261-7DE4516D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3E1-DDB2-43B7-BE53-5C9D9FDF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DFE-EC3C-4E26-A047-53D6AA08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293-1BB4-4DD7-BC65-BB743F93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4D60-C521-4844-AFFE-F663DCED8C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BCD4-120E-4D4E-970C-F616465AEE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dang Aplikasi E-Co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523880"/>
          <a:ext cx="8686800" cy="53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68680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luang &amp; Kendala E-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828800"/>
          <a:ext cx="914400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Commerce Teori-nya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fitas di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tualisasi Pengembangan Wilay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Custom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Busi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057400"/>
          <a:ext cx="9144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 (ED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 Whom EDI Can Be Used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cost to move to E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base dibalik Web 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ntangan Selanjutnya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v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ion L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 Teori-nya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al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suk ke Internet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rvey Poten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&amp; Profile Us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19360" y="2666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Web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ey User 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79640" y="1994040"/>
          <a:ext cx="301464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994040"/>
                    <a:ext cx="301464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Traffic Web Indone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0-80% traffic datangnya dari / ke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informasi Web yang agak banyak datangnya dar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com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edu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sg di Singap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ar traffic Web  harian mencapai 80-100Mby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Perdag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ga Bersa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tu Tin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tepatan Waktu sampai ke Pas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Profile User Hasil Sebuah Stu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rakteritik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ference and Per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Sources &amp; Distribution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u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42080" y="2454120"/>
          <a:ext cx="3089160" cy="43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080" y="2454120"/>
                    <a:ext cx="308916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mum Well Educated 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kar menemukan User Internet yang hanya berpendidikan SD :-)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 dominasi oleh P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umnya single atau tidak punya an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umnya Antara 25-35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ih Relatif Mu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co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Amerika Serik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65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Ero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42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97320" y="4648320"/>
          <a:ext cx="361656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7320" y="4648320"/>
                    <a:ext cx="3616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49400" y="4560840"/>
          <a:ext cx="517824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400" y="4560840"/>
                    <a:ext cx="51782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pe Perusahaan Yang Akan di Untungk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am Waktu Dek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erusahaan Kec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&lt;100 Pegawa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6512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reativ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ustomizabil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nveni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760" y="2097000"/>
          <a:ext cx="370656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097000"/>
                    <a:ext cx="370656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otal Customer Satisf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a competitive analysis and remember content is 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name of the game is the dom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't waste your time, do a time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pond, respond, resp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 on the circu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Offensive di Lap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ada Indonesia Technolog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disional vs Elektroni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it promosi &amp; akses pas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timpangan persaingan dag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onomi biaya tinggi &amp; birokra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edu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ar kurang kompeti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ses pasar mud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laian in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siasi &amp; penawaran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mudahan permintaan produk bar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ur informasi transpar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yanan interak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nada Indonesia TechNet (CITN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ower SMEs (Small Medium Enterpri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, Research, NGO, Gov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dian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-ctn@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jkt@ibm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TN - CTN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486080"/>
          <a:ext cx="70866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86080"/>
                    <a:ext cx="70866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@isnet.itb.ac.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man, RCTI, Bank, Dept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90720" y="1165320"/>
          <a:ext cx="8153280" cy="61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65320"/>
                    <a:ext cx="815328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AN Agriculture W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riculture@apan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 on Agri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orting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nd Card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0-9600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+ Sound Card +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ome.pages.de/~flexnet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TT FlexNet via Ser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tt_ser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ycom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3520" y="1752480"/>
          <a:ext cx="861048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61048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-3240" y="-3240"/>
          <a:ext cx="9074160" cy="67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88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AD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ADI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2514600"/>
          <a:ext cx="883908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839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i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4920" y="1600200"/>
          <a:ext cx="883908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83908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CD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10 km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in Router + Ethernet conn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ydra.carleton.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(CDM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774800"/>
          <a:ext cx="914400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4800"/>
                    <a:ext cx="91440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81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ational Tr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504800"/>
          <a:ext cx="8076960" cy="5353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04800"/>
                    <a:ext cx="8076960" cy="535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mateur Packet Satell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FOTO-13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FOT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Call Wai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2" name="ipfax_white3" descr=""/>
          <p:cNvPicPr/>
          <p:nvPr/>
        </p:nvPicPr>
        <p:blipFill>
          <a:blip r:embed="rId1"/>
          <a:stretch/>
        </p:blipFill>
        <p:spPr>
          <a:xfrm>
            <a:off x="380880" y="1625760"/>
            <a:ext cx="84582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4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 Glob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1674720"/>
          <a:ext cx="73152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4720"/>
                    <a:ext cx="7315200" cy="5183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7e988b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deo Confer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6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ptualisasi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1758960" y="2063880"/>
            <a:ext cx="6921360" cy="3568680"/>
          </a:xfrm>
          <a:custGeom>
            <a:avLst/>
            <a:gdLst>
              <a:gd name="textAreaLeft" fmla="*/ 256320 w 6921360"/>
              <a:gd name="textAreaRight" fmla="*/ 6665040 w 6921360"/>
              <a:gd name="textAreaTop" fmla="*/ 132120 h 3568680"/>
              <a:gd name="textAreaBottom" fmla="*/ 2850120 h 3568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425840" y="387360"/>
            <a:ext cx="4635720" cy="364500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135000 h 3645000"/>
              <a:gd name="textAreaBottom" fmla="*/ 2910960 h 3645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835280" y="6480"/>
            <a:ext cx="6769080" cy="25779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5400 h 2577960"/>
              <a:gd name="textAreaBottom" fmla="*/ 2058840 h 25779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892680" y="6480"/>
            <a:ext cx="5168880" cy="265428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98280 h 2654280"/>
              <a:gd name="textAreaBottom" fmla="*/ 2119680 h 26542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 flipH="1">
            <a:off x="81720" y="6480"/>
            <a:ext cx="6769080" cy="242568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se Inovasi 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ation: penghematan bia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sion:peningkatan performa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: nilai tambah ba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2133720"/>
          <a:ext cx="7084800" cy="52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084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Net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Empower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 Cre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Technology Supp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09:48:31Z</dcterms:created>
  <dc:creator>Onno W. Purbo</dc:creator>
  <dc:description/>
  <dc:language>en-US</dc:language>
  <cp:lastModifiedBy>Onno W. Purbo</cp:lastModifiedBy>
  <dcterms:modified xsi:type="dcterms:W3CDTF">1999-06-29T02:23:48Z</dcterms:modified>
  <cp:revision>24</cp:revision>
  <dc:subject/>
  <dc:title>No Slide Title</dc:title>
</cp:coreProperties>
</file>