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wmf" ContentType="image/x-wmf"/>
  <Override PartName="/ppt/media/image9.png" ContentType="image/png"/>
  <Override PartName="/ppt/media/image10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0146D2-7D18-4466-9D30-1C96544184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AF8BE-E691-4F65-842E-EDB8AFF379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EF39C-D5A4-40CB-832B-EF96BABA60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763F5-6207-45C1-A962-9D0E8CA1B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F12D38-1BA8-4A9A-B4B5-5AEE0095DD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765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826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101005-CDBD-496A-9753-060856E064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D5825-04F5-4FBF-B5D2-AE643EE5A7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12F5FD-6C14-40D4-9399-B771B690BD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380880" y="456840"/>
            <a:ext cx="8305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6AFDD-4AFE-4ED4-A306-D479D20D44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AE736-59AB-479F-99DE-3B7A5A2747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826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9D65D-EFC6-42F8-AD33-D7F20D24C3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765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826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BBB9E-3AFA-49D9-888F-AA107FDBB7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garis" descr=""/>
          <p:cNvPicPr/>
          <p:nvPr/>
        </p:nvPicPr>
        <p:blipFill>
          <a:blip r:embed="rId2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garis" descr=""/>
          <p:cNvPicPr/>
          <p:nvPr/>
        </p:nvPicPr>
        <p:blipFill>
          <a:blip r:embed="rId3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0" y="0"/>
            <a:ext cx="9144000" cy="30492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cc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1219320" y="624852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 flipH="1">
            <a:off x="-360" y="1447920"/>
            <a:ext cx="9829800" cy="0"/>
          </a:xfrm>
          <a:prstGeom prst="line">
            <a:avLst/>
          </a:prstGeom>
          <a:ln w="15840">
            <a:solidFill>
              <a:srgbClr val="336699"/>
            </a:solidFill>
            <a:miter/>
            <a:headEnd len="lg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digital" descr=""/>
          <p:cNvPicPr/>
          <p:nvPr/>
        </p:nvPicPr>
        <p:blipFill>
          <a:blip r:embed="rId2"/>
          <a:stretch/>
        </p:blipFill>
        <p:spPr>
          <a:xfrm>
            <a:off x="5907240" y="414360"/>
            <a:ext cx="2476440" cy="6094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8445600" y="0"/>
            <a:ext cx="685800" cy="6858000"/>
          </a:xfrm>
          <a:prstGeom prst="rect">
            <a:avLst/>
          </a:prstGeom>
          <a:solidFill>
            <a:srgbClr val="100f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" name="garis" descr=""/>
          <p:cNvPicPr/>
          <p:nvPr/>
        </p:nvPicPr>
        <p:blipFill>
          <a:blip r:embed="rId3"/>
          <a:stretch/>
        </p:blipFill>
        <p:spPr>
          <a:xfrm>
            <a:off x="304920" y="0"/>
            <a:ext cx="140004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garis" descr=""/>
          <p:cNvPicPr/>
          <p:nvPr/>
        </p:nvPicPr>
        <p:blipFill>
          <a:blip r:embed="rId4"/>
          <a:stretch/>
        </p:blipFill>
        <p:spPr>
          <a:xfrm>
            <a:off x="4267080" y="0"/>
            <a:ext cx="14004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360" y="2057040"/>
            <a:ext cx="63990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ftr" idx="3"/>
          </p:nvPr>
        </p:nvSpPr>
        <p:spPr>
          <a:xfrm>
            <a:off x="990720" y="6248520"/>
            <a:ext cx="44193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3399"/>
                </a:solidFill>
                <a:latin typeface="Myriad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Myriad Roman"/>
              </a:rPr>
              <a:t>Upt Perpustakaan Pusat - Insititut Teknologi Bandu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ganesha" descr=""/>
          <p:cNvPicPr/>
          <p:nvPr/>
        </p:nvPicPr>
        <p:blipFill>
          <a:blip r:embed="rId5"/>
          <a:stretch/>
        </p:blipFill>
        <p:spPr>
          <a:xfrm>
            <a:off x="8456760" y="5985000"/>
            <a:ext cx="685800" cy="819000"/>
          </a:xfrm>
          <a:prstGeom prst="rect">
            <a:avLst/>
          </a:prstGeom>
          <a:ln w="0">
            <a:noFill/>
          </a:ln>
        </p:spPr>
      </p:pic>
      <p:grpSp>
        <p:nvGrpSpPr>
          <p:cNvPr id="51" name=""/>
          <p:cNvGrpSpPr/>
          <p:nvPr/>
        </p:nvGrpSpPr>
        <p:grpSpPr>
          <a:xfrm>
            <a:off x="5073480" y="476280"/>
            <a:ext cx="4057920" cy="398880"/>
            <a:chOff x="5073480" y="476280"/>
            <a:chExt cx="4057920" cy="398880"/>
          </a:xfrm>
        </p:grpSpPr>
        <p:sp>
          <p:nvSpPr>
            <p:cNvPr id="52" name=""/>
            <p:cNvSpPr/>
            <p:nvPr/>
          </p:nvSpPr>
          <p:spPr>
            <a:xfrm>
              <a:off x="5073480" y="476280"/>
              <a:ext cx="762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team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092560" y="762120"/>
              <a:ext cx="403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cc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800000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embers.hotbot.com/" TargetMode="External"/><Relationship Id="rId2" Type="http://schemas.openxmlformats.org/officeDocument/2006/relationships/hyperlink" Target="http://members.hotbot.com/" TargetMode="External"/><Relationship Id="rId3" Type="http://schemas.openxmlformats.org/officeDocument/2006/relationships/hyperlink" Target="http://members.hotbot.com/" TargetMode="External"/><Relationship Id="rId4" Type="http://schemas.openxmlformats.org/officeDocument/2006/relationships/hyperlink" Target="http://members.hotbot.com/" TargetMode="External"/><Relationship Id="rId5" Type="http://schemas.openxmlformats.org/officeDocument/2006/relationships/hyperlink" Target="http://members.hotbot.com/" TargetMode="External"/><Relationship Id="rId6" Type="http://schemas.openxmlformats.org/officeDocument/2006/relationships/hyperlink" Target="http://members.hotbot.com/" TargetMode="External"/><Relationship Id="rId7" Type="http://schemas.openxmlformats.org/officeDocument/2006/relationships/hyperlink" Target="http://members.hotbot.com/" TargetMode="External"/><Relationship Id="rId8" Type="http://schemas.openxmlformats.org/officeDocument/2006/relationships/hyperlink" Target="http://members.hotbot.com/" TargetMode="External"/><Relationship Id="rId9" Type="http://schemas.openxmlformats.org/officeDocument/2006/relationships/hyperlink" Target="http://members.hotbot.com/" TargetMode="External"/><Relationship Id="rId10" Type="http://schemas.openxmlformats.org/officeDocument/2006/relationships/hyperlink" Target="http://members.hotbot.com/" TargetMode="External"/><Relationship Id="rId11" Type="http://schemas.openxmlformats.org/officeDocument/2006/relationships/hyperlink" Target="http://members.hotbot.com/" TargetMode="External"/><Relationship Id="rId12" Type="http://schemas.openxmlformats.org/officeDocument/2006/relationships/hyperlink" Target="http://members.hotbot.com/" TargetMode="External"/><Relationship Id="rId13" Type="http://schemas.openxmlformats.org/officeDocument/2006/relationships/hyperlink" Target="http://members.hotbot.com/" TargetMode="External"/><Relationship Id="rId14" Type="http://schemas.openxmlformats.org/officeDocument/2006/relationships/hyperlink" Target="http://members.hotbot.com/" TargetMode="External"/><Relationship Id="rId1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720" y="2057040"/>
            <a:ext cx="670536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3399"/>
                </a:solidFill>
                <a:latin typeface="Arial Narrow"/>
              </a:rPr>
              <a:t>Internet dan Perpustakaan di ITB </a:t>
            </a:r>
            <a:endParaRPr b="1" lang="en-US" sz="5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990720" y="388620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leh: Ismail Fahmi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smail@netmon.itb.ac.id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rah pengembangan IT PP ITB</a:t>
            </a:r>
            <a:br>
              <a:rPr sz="4400"/>
            </a:b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mbangun SISTEM Perpustakaan Elektroni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ibraryAutom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igital Libr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STEM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ring together collections, services, peop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8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ull life cycle of creation, dissemination, use, and preservation of data, information and knowledg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ibrary Automatio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dukung otomasi pelayanan perpustaka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-modul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"/>
              </a:rPr>
              <a:t>Circul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2"/>
              </a:rPr>
              <a:t>Catalog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4"/>
              </a:rPr>
              <a:t>Author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5"/>
              </a:rPr>
              <a:t>Keyword and Boolean Search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6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7"/>
              </a:rPr>
              <a:t>Reserve Room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8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9"/>
              </a:rPr>
              <a:t>Serials Control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0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1"/>
              </a:rPr>
              <a:t>Invento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2"/>
              </a:rPr>
              <a:t>Statistics Reporting</a:t>
            </a: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3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0000"/>
                </a:solidFill>
                <a:uFillTx/>
                <a:latin typeface="Arial"/>
                <a:hlinkClick r:id="rId14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gital Librar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kan hanya koleksi digi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api perpaduan antara koleksi, layanan dan SDM dalam sebuah life cycle penciptaan, penyebaran, penggunaan, dan pengelolaan data, informasi dan pengetahuan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op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ganisasi, proses kerja, layan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olek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maging Proc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16002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1: Strategi Analisis &amp; Index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295280" y="32767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3: 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11480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4: QC &amp; Re-scanni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95280" y="49528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5: Image processing &amp; stor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295280" y="243828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2: Persiap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295280" y="5791320"/>
            <a:ext cx="6096240" cy="68580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100000">
                <a:srgbClr val="75755e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hase 6: OC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trate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kus pada peningkatan skill SD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-training dan maga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knologi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dely used technology at Inter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lf developed solu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nd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nse, more for human skill enhancement, not for tools (compared with other solution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e, fund rising from services offer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pat dan murah: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yanan hosting buat perpustakaan lai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DS/I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rectory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Diagram Perpustakaan Elektroni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47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971800" y="4419720"/>
            <a:ext cx="160020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76920" y="4419720"/>
            <a:ext cx="1676160" cy="1066680"/>
          </a:xfrm>
          <a:prstGeom prst="can">
            <a:avLst>
              <a:gd name="adj" fmla="val 25000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3352680"/>
            <a:ext cx="388620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rary Autom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648320" y="3352680"/>
            <a:ext cx="3962160" cy="838440"/>
          </a:xfrm>
          <a:prstGeom prst="rect">
            <a:avLst/>
          </a:prstGeom>
          <a:gradFill rotWithShape="0">
            <a:gsLst>
              <a:gs pos="0">
                <a:srgbClr val="46755e"/>
              </a:gs>
              <a:gs pos="100000">
                <a:srgbClr val="99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ital Librar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733920" y="39625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3962520"/>
            <a:ext cx="304920" cy="609480"/>
          </a:xfrm>
          <a:prstGeom prst="upDownArrow">
            <a:avLst>
              <a:gd name="adj1" fmla="val 50000"/>
              <a:gd name="adj2" fmla="val 39791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2881800">
            <a:off x="4657320" y="3822840"/>
            <a:ext cx="304920" cy="990360"/>
          </a:xfrm>
          <a:prstGeom prst="upDownArrow">
            <a:avLst>
              <a:gd name="adj1" fmla="val 50000"/>
              <a:gd name="adj2" fmla="val 64658"/>
            </a:avLst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2590920"/>
            <a:ext cx="304560" cy="609480"/>
          </a:xfrm>
          <a:prstGeom prst="upDownArrow">
            <a:avLst>
              <a:gd name="adj1" fmla="val 50000"/>
              <a:gd name="adj2" fmla="val 39838"/>
            </a:avLst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133720" y="2057400"/>
            <a:ext cx="22096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Lib Auto.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2057400"/>
            <a:ext cx="228600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igLib Cli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lternatif Teknolog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6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963960" y="472428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822040" y="472428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22040" y="34290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822040" y="2057400"/>
            <a:ext cx="941040" cy="459720"/>
          </a:xfrm>
          <a:prstGeom prst="rect">
            <a:avLst/>
          </a:prstGeom>
          <a:gradFill rotWithShape="0">
            <a:gsLst>
              <a:gs pos="0">
                <a:srgbClr val="ccff99"/>
              </a:gs>
              <a:gs pos="100000">
                <a:srgbClr val="5e7546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VTL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963960" y="34290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963960" y="2057400"/>
            <a:ext cx="94284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yni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181840" y="4724280"/>
            <a:ext cx="9946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181480" y="3429000"/>
            <a:ext cx="358164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181480" y="2057400"/>
            <a:ext cx="18288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umize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251040" y="4724280"/>
            <a:ext cx="114552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Ms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70000" y="4724280"/>
            <a:ext cx="133128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162920" y="2057400"/>
            <a:ext cx="16002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89080" y="560376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* Free softwa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Perbanding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VTLS, Dynix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0866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7200" y="1523880"/>
            <a:ext cx="25909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1523880"/>
            <a:ext cx="19051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257800" y="1523880"/>
            <a:ext cx="1676520" cy="5335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50000">
                <a:srgbClr val="ffffcc"/>
              </a:gs>
              <a:gs pos="100000">
                <a:srgbClr val="7575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D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" y="25909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Oracle, Ms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57200" y="3048120"/>
            <a:ext cx="25909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ySQL (fre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200400" y="21337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Lengkap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200400" y="25909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00400" y="3048120"/>
            <a:ext cx="19051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Costumized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2578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86600" y="21337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578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Tinggi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86600" y="25909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ahal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086600" y="3048120"/>
            <a:ext cx="1676520" cy="38088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0000"/>
                </a:solidFill>
                <a:latin typeface="Arial"/>
              </a:rPr>
              <a:t>Murah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39560" y="4235400"/>
            <a:ext cx="721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lternatif lain Free version: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Oracle for Linux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Why failed?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a yang menyebabkan kegagalan implementasi sistem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Arial"/>
              </a:rPr>
              <a:t>SDM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as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mahal (dalam $US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st lebih banyak untuk hardware dan softw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tergantungan pada expatriat atau konsul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 solusi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ekan low cost teknologi, dan mengalihkan budget untuk meningkatkan kemampuan SD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Low cost technolog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" y="3048120"/>
            <a:ext cx="8686800" cy="1218960"/>
          </a:xfrm>
          <a:prstGeom prst="rect">
            <a:avLst/>
          </a:prstGeom>
          <a:gradFill rotWithShape="0">
            <a:gsLst>
              <a:gs pos="0">
                <a:srgbClr val="755e00"/>
              </a:gs>
              <a:gs pos="100000">
                <a:srgbClr val="ffcc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" y="4343400"/>
            <a:ext cx="8686800" cy="12193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79080" y="4495680"/>
            <a:ext cx="210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atabase &amp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repository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04920" y="297180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Bussiness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8600" y="1828800"/>
            <a:ext cx="8686800" cy="1066680"/>
          </a:xfrm>
          <a:prstGeom prst="rect">
            <a:avLst/>
          </a:prstGeom>
          <a:gradFill rotWithShape="0">
            <a:gsLst>
              <a:gs pos="0">
                <a:srgbClr val="3b0000"/>
              </a:gs>
              <a:gs pos="100000">
                <a:srgbClr val="800000"/>
              </a:gs>
            </a:gsLst>
            <a:lin ang="135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0880" y="19051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er lay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495680" y="4952880"/>
            <a:ext cx="3200400" cy="459720"/>
          </a:xfrm>
          <a:prstGeom prst="rect">
            <a:avLst/>
          </a:prstGeom>
          <a:gradFill rotWithShape="0">
            <a:gsLst>
              <a:gs pos="0">
                <a:srgbClr val="75755e"/>
              </a:gs>
              <a:gs pos="100000">
                <a:srgbClr val="ffffcc"/>
              </a:gs>
            </a:gsLst>
            <a:lin ang="13500000"/>
          </a:gra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File 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95680" y="4572000"/>
            <a:ext cx="3200400" cy="459720"/>
          </a:xfrm>
          <a:prstGeom prst="rect">
            <a:avLst/>
          </a:prstGeom>
          <a:gradFill rotWithShape="0">
            <a:gsLst>
              <a:gs pos="0">
                <a:srgbClr val="99ffcc"/>
              </a:gs>
              <a:gs pos="100000">
                <a:srgbClr val="46755e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ySQ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3352680"/>
            <a:ext cx="1523880" cy="60984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pach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b 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495680" y="2133720"/>
            <a:ext cx="16002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Windows bas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248520" y="2133720"/>
            <a:ext cx="144756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Brows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029200" y="2666880"/>
            <a:ext cx="304920" cy="2286000"/>
          </a:xfrm>
          <a:prstGeom prst="upDownArrow">
            <a:avLst>
              <a:gd name="adj1" fmla="val 50000"/>
              <a:gd name="adj2" fmla="val 149247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705720" y="2743200"/>
            <a:ext cx="304560" cy="457200"/>
          </a:xfrm>
          <a:prstGeom prst="upDownArrow">
            <a:avLst>
              <a:gd name="adj1" fmla="val 50000"/>
              <a:gd name="adj2" fmla="val 29885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705720" y="4038480"/>
            <a:ext cx="304560" cy="762120"/>
          </a:xfrm>
          <a:prstGeom prst="upDownArrow">
            <a:avLst>
              <a:gd name="adj1" fmla="val 50000"/>
              <a:gd name="adj2" fmla="val 4981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gend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di perpustakaan pusat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ah pengembangan IT PP IT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rate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knolog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mplementasi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 progress…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MySQL versus Oracle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Perbandingan kecepatan operasi relatif MySQL 3.22 versus Oracle 8.05 untuk suatu rangkaian proses tertentu:</a:t>
            </a:r>
            <a:br>
              <a:rPr sz="2400"/>
            </a:b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(lihat http://www.mysql.com/benchmark-results/result-mysql,oracle-relative.html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514600" y="3733920"/>
            <a:ext cx="609480" cy="1752480"/>
          </a:xfrm>
          <a:prstGeom prst="rect">
            <a:avLst/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657600" y="5334120"/>
            <a:ext cx="533520" cy="152280"/>
          </a:xfrm>
          <a:prstGeom prst="rect">
            <a:avLst/>
          </a:prstGeom>
          <a:solidFill>
            <a:srgbClr val="0000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811680" y="4876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440080" y="3276720"/>
            <a:ext cx="8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33.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362320" y="335268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33720" y="5638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31160" y="571500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MySQ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508840" y="571500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Orac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32160" y="3733920"/>
            <a:ext cx="76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Lam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imes New Roman"/>
              </a:rPr>
              <a:t>pros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oftware yang diguna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server: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ix FreeBSD atau Linux (database dan repositor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vell Netware (file &amp; application serv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stem operas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windows 3.11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windows 95 ke at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server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base: MySQ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x engine: SWISH-E,WAIS/I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er: Apache + PHP mod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5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likasi di clien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tomasi: Costumized, menggunakan Delphi, browser (di install di server Novel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00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gital library: browser, photoshop, scanner, OCR, pdf mak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Hardware yang dibutuhkan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tuk server Unix maupun Novell, cukup (minimal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Otomasi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100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 MB 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idak perlu Hard d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 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a dengan server minim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724280" y="1676520"/>
            <a:ext cx="38102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andingkan jika server NT, menggunakan Oracle atau MsSQL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II/III dual processor 450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4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SCSI Hard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en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tium 233 Mh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2 MB memo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6 GB Hard disk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95280" y="4572000"/>
            <a:ext cx="2971800" cy="3049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19320" y="2362320"/>
            <a:ext cx="2971800" cy="30456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0080" y="2666880"/>
            <a:ext cx="2971800" cy="6858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kill SDM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9000"/>
          </a:bodyPr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Automatio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ngoperasian software library auto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tal libra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server Novell &amp; Uni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ministrator jaring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filtering (librari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cumen sc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cataloging and index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e processing (Photoshop, OCR, pdf, dl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ources organization (webmast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-2034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g manag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Servic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99"/>
                </a:solidFill>
                <a:latin typeface="Arial"/>
              </a:rPr>
              <a:t>Digital Library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mp to Web Pa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Verdana"/>
              </a:rPr>
              <a:t>Kategori Informasi</a:t>
            </a:r>
            <a:endParaRPr b="1" lang="en-US" sz="36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5050"/>
                </a:solidFill>
                <a:latin typeface="Verdana"/>
              </a:rPr>
              <a:t>Berdasarkan format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7010280" y="6172200"/>
            <a:ext cx="1857600" cy="285840"/>
          </a:xfrm>
          <a:prstGeom prst="rect">
            <a:avLst/>
          </a:prstGeom>
          <a:ln w="0">
            <a:noFill/>
          </a:ln>
        </p:spPr>
      </p:pic>
      <p:grpSp>
        <p:nvGrpSpPr>
          <p:cNvPr id="243" name=""/>
          <p:cNvGrpSpPr/>
          <p:nvPr/>
        </p:nvGrpSpPr>
        <p:grpSpPr>
          <a:xfrm>
            <a:off x="744120" y="2743200"/>
            <a:ext cx="1421280" cy="1516320"/>
            <a:chOff x="744120" y="2743200"/>
            <a:chExt cx="1421280" cy="1516320"/>
          </a:xfrm>
        </p:grpSpPr>
        <p:pic>
          <p:nvPicPr>
            <p:cNvPr id="244" name="" descr=""/>
            <p:cNvPicPr/>
            <p:nvPr/>
          </p:nvPicPr>
          <p:blipFill>
            <a:blip r:embed="rId2"/>
            <a:stretch/>
          </p:blipFill>
          <p:spPr>
            <a:xfrm>
              <a:off x="933480" y="2743200"/>
              <a:ext cx="95256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" name=""/>
            <p:cNvSpPr/>
            <p:nvPr/>
          </p:nvSpPr>
          <p:spPr>
            <a:xfrm>
              <a:off x="744120" y="3860640"/>
              <a:ext cx="1421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okumen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2524680" y="4114800"/>
            <a:ext cx="1305360" cy="1999080"/>
            <a:chOff x="2524680" y="4114800"/>
            <a:chExt cx="1305360" cy="1999080"/>
          </a:xfrm>
        </p:grpSpPr>
        <p:pic>
          <p:nvPicPr>
            <p:cNvPr id="247" name="" descr=""/>
            <p:cNvPicPr/>
            <p:nvPr/>
          </p:nvPicPr>
          <p:blipFill>
            <a:blip r:embed="rId3"/>
            <a:stretch/>
          </p:blipFill>
          <p:spPr>
            <a:xfrm>
              <a:off x="2635200" y="4114800"/>
              <a:ext cx="1074600" cy="107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"/>
            <p:cNvSpPr/>
            <p:nvPr/>
          </p:nvSpPr>
          <p:spPr>
            <a:xfrm>
              <a:off x="2524680" y="5410080"/>
              <a:ext cx="1305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Gambar/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Visual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9" name=""/>
          <p:cNvGrpSpPr/>
          <p:nvPr/>
        </p:nvGrpSpPr>
        <p:grpSpPr>
          <a:xfrm>
            <a:off x="4785120" y="4038480"/>
            <a:ext cx="1646640" cy="1694160"/>
            <a:chOff x="4785120" y="4038480"/>
            <a:chExt cx="1646640" cy="1694160"/>
          </a:xfrm>
        </p:grpSpPr>
        <p:pic>
          <p:nvPicPr>
            <p:cNvPr id="250" name="" descr=""/>
            <p:cNvPicPr/>
            <p:nvPr/>
          </p:nvPicPr>
          <p:blipFill>
            <a:blip r:embed="rId4"/>
            <a:stretch/>
          </p:blipFill>
          <p:spPr>
            <a:xfrm>
              <a:off x="5064120" y="4038480"/>
              <a:ext cx="952560" cy="88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" name=""/>
            <p:cNvSpPr/>
            <p:nvPr/>
          </p:nvSpPr>
          <p:spPr>
            <a:xfrm>
              <a:off x="4785120" y="5333760"/>
              <a:ext cx="1646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Multimedia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6345000" y="2286000"/>
            <a:ext cx="1380240" cy="1846800"/>
            <a:chOff x="6345000" y="2286000"/>
            <a:chExt cx="1380240" cy="1846800"/>
          </a:xfrm>
        </p:grpSpPr>
        <p:pic>
          <p:nvPicPr>
            <p:cNvPr id="253" name="" descr=""/>
            <p:cNvPicPr/>
            <p:nvPr/>
          </p:nvPicPr>
          <p:blipFill>
            <a:blip r:embed="rId5"/>
            <a:stretch/>
          </p:blipFill>
          <p:spPr>
            <a:xfrm>
              <a:off x="6642360" y="2286000"/>
              <a:ext cx="771480" cy="95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" name=""/>
            <p:cNvSpPr/>
            <p:nvPr/>
          </p:nvSpPr>
          <p:spPr>
            <a:xfrm>
              <a:off x="6345000" y="3429000"/>
              <a:ext cx="1380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Databas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CDS/ISIS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 Progres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am Digital Library PP IT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ain dan implementasi software Otomasi dan Digital Library (integrated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et management dan teknologi imag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persiapkan modul training untuk pengembangan SDM di bidang Otomasi, Teknologi Imaging, dan Digital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mise layanan (setelah melewati testbed di PP ITB)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aging pro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mbangunan SISTEM perpustakaan elektronik (otomasi dan digital librar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aining &amp; maga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ferensi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www.lib.itb.ac.id/isis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netmon.itb.ac.id/~ismai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op-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-network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3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donesia-panel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gilib@itb.ac.i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Radio Packet (1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Leased Line (19,2 K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Satellite (1,5 Mbp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e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2: Department of Electrical E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4: I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96: 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Researches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ail with radio packe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net servers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, ftp, gop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uting, wavelan, ipv6, net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tion Technology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ance Learning, Virtual library, ISIS Network, Knowledge Management, publishing 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:Education Network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 ISP, for Edu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 institutions (more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biggest Edunet (in Indonesi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udents driv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nrg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ai3-logo" descr=""/>
          <p:cNvPicPr/>
          <p:nvPr/>
        </p:nvPicPr>
        <p:blipFill>
          <a:blip r:embed="rId1"/>
          <a:stretch/>
        </p:blipFill>
        <p:spPr>
          <a:xfrm>
            <a:off x="4952880" y="1351080"/>
            <a:ext cx="3333960" cy="175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ai3-itb" descr=""/>
          <p:cNvPicPr/>
          <p:nvPr/>
        </p:nvPicPr>
        <p:blipFill>
          <a:blip r:embed="rId1"/>
          <a:stretch/>
        </p:blipFill>
        <p:spPr>
          <a:xfrm>
            <a:off x="57240" y="171360"/>
            <a:ext cx="9029520" cy="651528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962160" y="685440"/>
            <a:ext cx="3733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AI3/ITB Map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 Narrow"/>
              </a:rPr>
              <a:t>AI3 Indonesia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44956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Indonesi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038480" y="5029200"/>
            <a:ext cx="1524240" cy="15238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II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219320" y="1523880"/>
            <a:ext cx="2514600" cy="266724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1600200"/>
            <a:ext cx="144792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676520" y="2895480"/>
            <a:ext cx="1447560" cy="121932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AI3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6200" y="289548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-One /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ingaRE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3124080"/>
            <a:ext cx="213336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vB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0080" y="1447920"/>
            <a:ext cx="1676520" cy="17524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STARTA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010280" y="0"/>
            <a:ext cx="2133720" cy="2057400"/>
          </a:xfrm>
          <a:prstGeom prst="ellips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CA*net3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352680" y="5638680"/>
            <a:ext cx="68580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3200400" y="4419360"/>
            <a:ext cx="7621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2362320" y="4114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200400" y="2209680"/>
            <a:ext cx="22096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638680" y="3047760"/>
            <a:ext cx="7632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781680" y="3048120"/>
            <a:ext cx="304920" cy="304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934320" y="16761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513240" y="1752480"/>
            <a:ext cx="181764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TransPAC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73680" y="3038400"/>
            <a:ext cx="1165320" cy="5205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0000"/>
                </a:solidFill>
                <a:latin typeface="Times New Roman"/>
              </a:rPr>
              <a:t>APA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su" descr=""/>
          <p:cNvPicPr/>
          <p:nvPr/>
        </p:nvPicPr>
        <p:blipFill>
          <a:blip r:embed="rId1"/>
          <a:stretch/>
        </p:blipFill>
        <p:spPr>
          <a:xfrm>
            <a:off x="5791320" y="685800"/>
            <a:ext cx="2857320" cy="1886040"/>
          </a:xfrm>
          <a:prstGeom prst="rect">
            <a:avLst/>
          </a:prstGeom>
          <a:ln w="0">
            <a:noFill/>
          </a:ln>
        </p:spPr>
      </p:pic>
      <p:pic>
        <p:nvPicPr>
          <p:cNvPr id="124" name="itb-isis" descr=""/>
          <p:cNvPicPr/>
          <p:nvPr/>
        </p:nvPicPr>
        <p:blipFill>
          <a:blip r:embed="rId2"/>
          <a:stretch/>
        </p:blipFill>
        <p:spPr>
          <a:xfrm>
            <a:off x="4495680" y="2895480"/>
            <a:ext cx="4233960" cy="321480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80880" y="45684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Internet di PP ITB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 poin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udents internet access cen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00 us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ail &amp; web ac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y on Internet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ntral Library Home p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talogue search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www.lib.itb.ac.id/search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ttp://digital.lib.itb.ac.id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99"/>
                </a:solidFill>
                <a:latin typeface="Arial Narrow"/>
              </a:rPr>
              <a:t>Build Library Community</a:t>
            </a:r>
            <a:endParaRPr b="1" lang="en-US" sz="4400" spc="-1" strike="noStrike">
              <a:solidFill>
                <a:srgbClr val="003399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braria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stakawan@itb.ac.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bscribe to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jordomo@itb.ac.i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with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ssage’s body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ubscribe pustaka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 about IT and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ng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800000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IS Net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4724280" y="3886200"/>
            <a:ext cx="2335320" cy="179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02:53:27Z</dcterms:created>
  <dc:creator>Sakerah</dc:creator>
  <dc:description/>
  <dc:language>en-US</dc:language>
  <cp:lastModifiedBy>BPIP term-2</cp:lastModifiedBy>
  <dcterms:modified xsi:type="dcterms:W3CDTF">1999-09-23T04:12:50Z</dcterms:modified>
  <cp:revision>113</cp:revision>
  <dc:subject/>
  <dc:title>INTERNET: Apa dan bagaimana...</dc:title>
</cp:coreProperties>
</file>