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c1fe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a2c1f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3191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Network Research Group - I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20040" y="57240"/>
            <a:ext cx="682560" cy="947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Internet &amp; Revolusi Inform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Network Resear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 Teknologi Ba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Komputer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berapa aplikasi yang sedang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Operating System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BS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Bottom Line Opera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/S Umumnya Internet 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ci p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M Mampu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Key Issue Softwar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us memilik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us memilik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ous System (AS)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!!!!! - sangat f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ak tergantung hardware &amp;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ak tergantung jenis saluran komunik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Beberapa Servis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rg@itb.ac.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.ee.itb.ac.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b.ac.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ee.itb.ac.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con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FAX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h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34196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ontoh Search Ly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67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Konsep Multicast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 MBone 224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k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monitor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a IP address MB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ggunakan software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rou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Visualisasi M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8390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Aplikasi M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Broadcasting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o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Broadcasting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Reflector di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Teleconference via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Broadcast via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Teknologi Komunik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2743200"/>
            <a:ext cx="6400800" cy="25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Wide Are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Dat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nologi HDSL &amp; sebangsa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DS / M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berapa Filosofi Information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i Praktis -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i Praktis -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i Praktis -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h Network Antar Universi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Peralatan Wireless 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1981080"/>
            <a:ext cx="6400800" cy="25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 Wireless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2Mbps s/d 10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15-40 km :-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Yagi / D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sebagai router ke LAN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Wireless 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1676520"/>
            <a:ext cx="8991720" cy="48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4680" y="2452680"/>
            <a:ext cx="6703920" cy="1866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32080" y="4479840"/>
            <a:ext cx="707544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baan di ITB, Ba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n Antenna Loop Yagi 915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rak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 k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-to-LAN Connectio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onsor PT. Compact Microwave Indone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Wireless Data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da 3 operator di Indon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 PCMCIA di Palmtop, Laptop, Handheld P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cepatan 9600-19.2Kb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4734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HDSL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600" y="2200320"/>
            <a:ext cx="9010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MCS / MM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etric Inbound / Out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Mbps In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Mbps  Out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kuensi 24-28 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rak 2 km (ce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h Aplikasi: Video on Demand &amp;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ybercast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7320" y="974880"/>
            <a:ext cx="603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us.sg/Cybercast/Cyberca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06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Video Tele-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67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Konfigurasi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11280" y="2127240"/>
            <a:ext cx="6113520" cy="408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899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Web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makan traffic terbesar di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lu dilakukan caching secara serius. Artinya Page yang pernah di ambil, tidak perlu di ambil ul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B saat ini yang mempunyai paling tidak mempunyai 6-7 Web cache server running squid di FreeBS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orporate / Campus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22400" y="1523880"/>
            <a:ext cx="709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5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Informatio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2590920"/>
            <a:ext cx="64008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Anda Kesulit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 ke Provider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beberapa mailing list Indonesia yang sifatnya tek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u-mikro@ee.umanitoba.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op-l@itb.ac.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ayering of Informatio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209680"/>
            <a:ext cx="4038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51040" y="2452680"/>
            <a:ext cx="381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200400"/>
            <a:ext cx="4038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08240" y="3214800"/>
            <a:ext cx="2998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191120"/>
            <a:ext cx="4038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0560" y="4205160"/>
            <a:ext cx="3186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209680"/>
            <a:ext cx="12952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9960" y="3246480"/>
            <a:ext cx="1968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209680"/>
            <a:ext cx="12952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51440" y="3138480"/>
            <a:ext cx="2919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Technical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-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C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efinition TeleVision (HDT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Data Interchange (ED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Representation (HTML, SG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ore Informatio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Time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Telecommunications &amp; Netwo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nd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Komputer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Bottom Line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Based sangat di mungkink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Trend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held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Appli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1933560"/>
            <a:ext cx="3886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no W. Purbo</dc:creator>
  <dc:description/>
  <dc:language>en-US</dc:language>
  <cp:lastModifiedBy>Onno W. Purbo</cp:lastModifiedBy>
  <cp:revision>0</cp:revision>
  <dc:subject/>
  <dc:title>Alternatif Teknologi Internet</dc:title>
</cp:coreProperties>
</file>