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5F5-BAEE-41FB-B619-1E3D2CDD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A6D6-E6C0-447C-B052-FA0FD26B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9D4-3C44-472D-82D1-A4340D56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5AC-0A6D-4A8E-9E88-AAAF65AB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0AA2-2447-441E-BAD6-59928DFE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1374-74FB-484B-8B0B-ADB452BD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AF78-3597-41E8-811C-D7CAD9E7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1F86-5405-480F-8195-44A51963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89D0-78E3-476A-90E5-32926DFA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DE5E-A90D-4E70-9873-1058DE9C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3B77-EB3C-404A-AD10-A0A81297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8D3-2543-4100-9CDB-D582D408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5E38-90C6-4E53-9937-391A5877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7E04-83E9-497C-AC59-FC904395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89B8-D34C-49BE-930A-36ECA780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3738-A7A6-4FA1-BB44-55864BA5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BE03-F391-4005-B129-B068B978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D0B-0AED-4CD7-A0C1-E844661C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CCB-B408-41B9-9307-BEE1A1B0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7AB-5F14-49DA-B005-0E86E3DF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C1B-48A0-47D9-85BC-D336A631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D15-8F54-4B0C-8509-34E34A7D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07D-173D-46F4-AB2D-C9E22C0E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CBE-50C7-4461-9609-5435D712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DA46-DAB6-41C4-95D3-B7113584E6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6840-066B-43AF-AB4E-1EBE5D58CB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ndonesia-panel@itb.ac.id" TargetMode="External"/><Relationship Id="rId2" Type="http://schemas.openxmlformats.org/officeDocument/2006/relationships/hyperlink" Target="http://www.mdaemon.com/" TargetMode="External"/><Relationship Id="rId3" Type="http://schemas.openxmlformats.org/officeDocument/2006/relationships/hyperlink" Target="http://www.wingate.com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mailto:onno@indo.net.id" TargetMode="External"/><Relationship Id="rId2" Type="http://schemas.openxmlformats.org/officeDocument/2006/relationships/hyperlink" Target="mailto:onno@itb.ac.id" TargetMode="External"/><Relationship Id="rId3" Type="http://schemas.openxmlformats.org/officeDocument/2006/relationships/hyperlink" Target="mailto:onno@itb.ac.id" TargetMode="External"/><Relationship Id="rId4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&amp; Web Mur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I3/IT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dak perlu registr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ge langsung ke telepon b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Brow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Perlu akal-akalan utk E-mail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Bandung / Jakarta – 1Mbyte / 5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0-1000 e-mail / 5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kup 5-10 menit / hari utk satu institusi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Ujung Pandang – 400Kbyte / 7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p. 50-200.000 / bulan / institusi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Dial 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ai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-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al1" descr=""/>
          <p:cNvPicPr/>
          <p:nvPr/>
        </p:nvPicPr>
        <p:blipFill>
          <a:blip r:embed="rId1"/>
          <a:stretch/>
        </p:blipFill>
        <p:spPr>
          <a:xfrm>
            <a:off x="685800" y="15840"/>
            <a:ext cx="84582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l5" descr=""/>
          <p:cNvPicPr/>
          <p:nvPr/>
        </p:nvPicPr>
        <p:blipFill>
          <a:blip r:embed="rId1"/>
          <a:stretch/>
        </p:blipFill>
        <p:spPr>
          <a:xfrm>
            <a:off x="2362320" y="0"/>
            <a:ext cx="65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dial2" descr=""/>
          <p:cNvPicPr/>
          <p:nvPr/>
        </p:nvPicPr>
        <p:blipFill>
          <a:blip r:embed="rId1"/>
          <a:stretch/>
        </p:blipFill>
        <p:spPr>
          <a:xfrm>
            <a:off x="838080" y="-27000"/>
            <a:ext cx="83059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rung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Access Ce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letakan di konsentrasi mas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kol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guruan Tingg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sant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rget Biay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0.000 / bulan untuk e-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0-1000 mail / h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5-7.000 / jam untuk We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~ 1-2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www.mdaemon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http://www.wingat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iness Overview (x Rp. jut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2743200"/>
          <a:ext cx="7812000" cy="2076480"/>
        </p:xfrm>
        <a:graphic>
          <a:graphicData uri="http://schemas.openxmlformats.org/drawingml/2006/table">
            <a:tbl>
              <a:tblPr/>
              <a:tblGrid>
                <a:gridCol w="2717640"/>
                <a:gridCol w="1301760"/>
                <a:gridCol w="1225800"/>
                <a:gridCol w="1377720"/>
                <a:gridCol w="118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-mail 300 u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10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3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Detail –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disi U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asi Rp. 21 ju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-300 penggu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-2000 mail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-15 menit connect ke ISP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itung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 user x Rp.10.000/bln = Rp.3 juta/b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 mnt/hr x Rp.150/mnt x 30 = Rp.70.000/bl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mbahan Operasional Rp. 1 juta / bu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sa uang Rp. 2 juta / bulan utk balik mod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 Lebih Lanj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eknologi Warung Interne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CP/IP Disain &amp; Implementasi”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9 January 2000 – Seminar / workshop WARNET di I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ingate-password" descr=""/>
          <p:cNvPicPr/>
          <p:nvPr/>
        </p:nvPicPr>
        <p:blipFill>
          <a:blip r:embed="rId1"/>
          <a:stretch/>
        </p:blipFill>
        <p:spPr>
          <a:xfrm>
            <a:off x="1295280" y="-6480"/>
            <a:ext cx="78487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ingate-servic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ingate-syste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wingate-dialer" descr=""/>
          <p:cNvPicPr/>
          <p:nvPr/>
        </p:nvPicPr>
        <p:blipFill>
          <a:blip r:embed="rId1"/>
          <a:stretch/>
        </p:blipFill>
        <p:spPr>
          <a:xfrm>
            <a:off x="2543040" y="0"/>
            <a:ext cx="660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kusi di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IE 5.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e-connection" descr=""/>
          <p:cNvPicPr/>
          <p:nvPr/>
        </p:nvPicPr>
        <p:blipFill>
          <a:blip r:embed="rId1"/>
          <a:stretch/>
        </p:blipFill>
        <p:spPr>
          <a:xfrm>
            <a:off x="2984400" y="0"/>
            <a:ext cx="615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e-proxy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kuensi 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c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E-mail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Web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a Alternati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Servis ET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666880"/>
            <a:ext cx="342900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RN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TRN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um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a sebuah institu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al sebuah PC window 95 / 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kur-sukur ada beberapa komputer (dalam dikaitkan dalam LA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 sebuah PC Windows95 + modem sebagai gateway k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DomainP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666880"/>
            <a:ext cx="518148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X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X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ntuk MDaem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mdaemon-hom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ses Web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blikasi Home Page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unikasi E-mai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Komunikasi E-mail jauh lebih penting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mdaemon-setup-ras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mdaemon-setup-isp-logon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mademon-schedul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mdaemon-system-daem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mdaemon-domain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/windows/h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7.0.0.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3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nesha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21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32.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6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juna.telkom.co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15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1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2.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2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mdaemon-setup-etrn-dequeue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mdaemon-account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ber Daya Man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d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ahli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Sedikit $$$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ima kasi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1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2"/>
              </a:rPr>
              <a:t>onno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3"/>
              </a:rPr>
              <a:t>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stakawan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-network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elit VSAT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sed Line JAMUS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LAN Microwave (2-11 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pon (33.6 K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 radio (1200bps - 9600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um pernah akses Interne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ganan IS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 TelkomNet Instant – 0809 8 9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abaya, Malang, Madi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ka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jung Pand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g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jarma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6T00:47:54Z</dcterms:created>
  <dc:creator>Onno W. Purbo</dc:creator>
  <dc:description/>
  <dc:language>en-US</dc:language>
  <cp:lastModifiedBy>Onno W. Purbo</cp:lastModifiedBy>
  <dcterms:modified xsi:type="dcterms:W3CDTF">2000-03-16T11:37:25Z</dcterms:modified>
  <cp:revision>79</cp:revision>
  <dc:subject/>
  <dc:title>Akses E-mail &amp; Web Murah</dc:title>
</cp:coreProperties>
</file>