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01904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01904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01904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91440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91440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01904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01904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019040"/>
            <a:ext cx="29440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01904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01904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084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914400"/>
            <a:ext cx="4462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019040"/>
            <a:ext cx="91440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83944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The IEEE 802.16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Black"/>
              </a:rPr>
              <a:t>WirelessMAN™ Standard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449532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1860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860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500" spc="-1" strike="noStrike">
                <a:solidFill>
                  <a:srgbClr val="0099ff"/>
                </a:solidFill>
                <a:latin typeface="Arial"/>
              </a:rPr>
              <a:t>http://WirelessMAN.or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860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Brian G. Kiern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860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InterDigital Communications Corp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860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Vice Chair, IEEE 802.16 Working Grou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240840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HY Considerat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(10-66 GHz)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band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channels (20, 25, or 28 M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apacity – Downlin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M/TD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rate burst mod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ve Burst Profiles on Uplink and Downlin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plex scheme agno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ivision Duplex (TD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-Division Duplex (FDD) [including Burst FDD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for Half-Duplex Termi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hysical Layer Adaptivity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65" name="adaptiive_modulation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534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57913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burst-by-burst adaptivity not show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Adaptive Burst Profiles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st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ation and F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ally assigned according to link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st by burst, per subscriber 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-off capacity vs. robustness 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ghly doubled capacity for the same cell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Burst profile for downlink broadcast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ther burst profiles can be configured “on the fl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criber station capabilities recognized at 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innovative schemes to efficiently use the spectrum while remaining interope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Duplex Scheme Support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downlink, SS is associated with a specific b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uplink, SS is allotted a variable length time slot for their transmis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-Division Duplex (T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link &amp; Uplink time share the same RF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asym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 does not transmit &amp; receive simultaneously (low c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-Division Duplex (F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link &amp; Uplink on separate RF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 asymm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duplex SSs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S does not transmit &amp; receive simultaneously (low co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Modulation (10-66 GHz)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ngle Carrier QAM, Gray co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P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Q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ory for Downlink, Optional for Up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Q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onal for both Downlink &amp; Up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FEC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ed Solo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 GF(256), t = 0…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robust communications, the RS code is concatenated with a BC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terleaving, suitable for bu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CC is a rate 2/3 block code based on a tail-bite termination of the (7,5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volutional Code for every 16 data 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ortening allow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bo Product Codes (TPC) are opt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Baud Rates &amp; Channel Siz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(10-66 GHz)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plan - equipment manufacturers can choose according to spectrum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PSK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6-QA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4-Q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bo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 R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 R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Hz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sym/s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bit/s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bit/s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bit/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8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.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4.8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.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4.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MAC Requirements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Network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reles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very efficient use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b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high bit rates, downlink and up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nge of QoS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ernet, IPv4, IPv6, ATM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lihood of terminal being 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Station may be heavily loa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-Independent Eng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layers to ATM, IP, Ethernet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both TDD and FDD 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802.16 MAC: Overview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ion-ori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difficult user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bandwidth on demand, hundreds of users per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and bursty traf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efficient use of spect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-Independent core (ATM, IP, Ethernet,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P-based and Packet-based Convergence lay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s between stability of contentionless and efficiency of contention-based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QoS offe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BR, rt-VBR, nrt-VBR, BE, with granularity within 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 privacy and encry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ptions for vendor innovation and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schedu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t for support of multiple PH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EEE 802.16 WirelessMAN Air Interface, addresses worldwide BWA market nee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802.16 MAC is flexible and powerful enough to support any fixed BWA technology variant in any spectrum in any mar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802.16 Air Interface provides great opportunities for vendor differentiation, at both the base station and subscriber station, without compromising interop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utcome was due to successful cooperation between BWA lea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4760" y="253800"/>
            <a:ext cx="8469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ave you heard ?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EEE 802.16 is delivering as promised!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ublication (March 2002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EEE Standard 802.16: Air Interface for Fixed Broadband Wireless Access Systems (10-66 G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draft completed and in catalog since October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ublication (10 September 2001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EEE Standard 802.16.2: Recommended Practice- Coexistence of Fixed Broadband Wireless Access Systems (10-66 GH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Amendment Project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EEE P802.16a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edia Access Control Modifications and Additional Physical Layers for 2-11 GHz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s both Licensed and License Exempt frequency b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Key Features of 802.16a Draft PHY (2-11 GHz)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DD or F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DM/OF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-Carrier TD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optional Frequency-Domain Equ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Key 802.16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MAC Enhancements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DM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h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onal top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cense Exempt b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criber-to-Subscriber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BWA in ETSI BRAN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PER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11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ERACCESS began before 802.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resolvin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EE now well ahead in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PER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11 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EE went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of healthy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802.16 MAC and 802.16a OFDM PHY as bas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31760" y="152280"/>
            <a:ext cx="74469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What’s Next ?</a:t>
            </a:r>
            <a:endParaRPr b="0" lang="en-US" sz="4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mplete 2-11 GHz wor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nhance 10-66 GHz spe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teroperability test protocol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nd Publ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 (WiMA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pand reach under 802.16 MA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nsider support for mobilit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im to be 4G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9200" y="142920"/>
            <a:ext cx="9064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 Black"/>
              </a:rPr>
              <a:t>How to Participate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500120"/>
            <a:ext cx="80773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0680" bIns="40680" anchor="t">
            <a:noAutofit/>
          </a:bodyPr>
          <a:p>
            <a:pPr lvl="1" marL="561960" indent="-154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–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tend meetin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080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–"/>
              <a:tabLst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oin us next month in St. Lou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1960" indent="-154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–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d reflec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1960" indent="-154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–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d docu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1960" indent="-154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–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mit documents &amp; com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1960" indent="-154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Helvetica"/>
              <a:buChar char="–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oin sponsor ballot pool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istribution of IEEE 802 Standard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2960" y="820800"/>
            <a:ext cx="78580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31760" y="152280"/>
            <a:ext cx="74469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ith its steady progress, IEEE 802.16 is a BWA success story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IEEE 802.16 MAC is a future-proof platform supporting an array of service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The IEEE 802.16 10-66 GHz PHY is coming soon to a chip set near you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iMAX will support compliance tests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EEE 802.16a (2-11 GHz) this summer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 Black"/>
              </a:rPr>
              <a:t>IEEE 802.16 Resources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EEE 802.16 Working Group on Broadband Wireless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nfo, documents, email lists, et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http://WirelessMAN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29000" y="4114800"/>
            <a:ext cx="25588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EEE 802.16 History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EEE Computer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EEE Microwave Theory and Techniques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Development: Summer 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EE 802 Tutorial: November 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EE Study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vember 1998-March 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sion #1: July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sion #17: January 2002 Levi, Fi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ssion #18: 11-15 March, St.Lou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IEEE 802.16 by the Numbers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5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9 “Potential Membe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8 Official Ob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700 different individuals have attended a s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8 Million file downloads in year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s and Potential Members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110 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6000"/>
            <a:ext cx="876312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IEEE 802.16 Project Structure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237040"/>
            <a:ext cx="3962520" cy="155484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EE Standard 802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-66 GHz 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680" y="990720"/>
            <a:ext cx="39891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Standa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4128120"/>
            <a:ext cx="3962520" cy="228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802.16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11 GHz 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enhanc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al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ion: August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237400"/>
            <a:ext cx="3886200" cy="155484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EE Standard 802.1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-66 G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57600" y="990720"/>
            <a:ext cx="39006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Recommended Pract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4128120"/>
            <a:ext cx="3886200" cy="228636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802.16.2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-11 G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ion: March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EEE  P802.16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Standard Air Interface for Fixed Broadband Wireless Access Syst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802.16 Scope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es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ir interf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ncluding the medium access control layer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physical layer (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x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int-to-multipo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oadband wireless access systems providin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serv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medium access control layer is capable of supportin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ple physical lay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ations optimized for the frequency bands of the application. The standard includes a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rticular physical lay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ecification broadly applicable to systems operating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tween 10 and 66 GHz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EEE P802.16 History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uly-Sept., 199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Functional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vember 199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35 Propo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nuary 2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2 Consolidated Propo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y 2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lan to Merge 2 Propo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gust 200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ev.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ru February 2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Working Group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bruary-August 2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WG Letter Bal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gust-October 2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IEEE Sponsor Bal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6 December 200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RevCom approv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rch 200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ub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oint-to-Multipoint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Wireless MAN: not a LAN</a:t>
            </a:r>
            <a:endParaRPr b="0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 Station (BS) connected to public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S serves Subscriber Stations (S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 and SS are station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 typically serves a building (business or reside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SS with first-mile access to public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services, with different QoS priority, simul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14:42:28Z</dcterms:created>
  <dc:creator>Roger B. Marks</dc:creator>
  <dc:description/>
  <dc:language>en-US</dc:language>
  <cp:lastModifiedBy>IST</cp:lastModifiedBy>
  <cp:lastPrinted>2001-11-12T23:43:28Z</cp:lastPrinted>
  <dcterms:modified xsi:type="dcterms:W3CDTF">2002-02-08T19:18:31Z</dcterms:modified>
  <cp:revision>230</cp:revision>
  <dc:subject/>
  <dc:title>IEEE 802.16:  Process, Status, Plans</dc:title>
</cp:coreProperties>
</file>