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mp7-body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274920" y="6366960"/>
            <a:ext cx="323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99"/>
                </a:solidFill>
                <a:latin typeface="Arial"/>
              </a:rPr>
              <a:t>Proprietary and Confidential- subject to nondisclosure agre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82520" y="636732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ddddd"/>
                </a:solidFill>
                <a:latin typeface="Arial"/>
              </a:rPr>
              <a:t>Page </a:t>
            </a:r>
            <a:fld id="{03180220-8121-4C87-99A3-7EF9CBD5305A}" type="slidenum">
              <a:rPr b="0" lang="en-US" sz="8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16600" y="6066000"/>
            <a:ext cx="23274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pwlogo-white" descr=""/>
          <p:cNvPicPr/>
          <p:nvPr/>
        </p:nvPicPr>
        <p:blipFill>
          <a:blip r:embed="rId3"/>
          <a:stretch/>
        </p:blipFill>
        <p:spPr>
          <a:xfrm>
            <a:off x="7164360" y="6213600"/>
            <a:ext cx="1679760" cy="5810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1-31-01-temp-cover-blank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34600" y="3936960"/>
            <a:ext cx="646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5" name="ipwireless" descr=""/>
          <p:cNvPicPr/>
          <p:nvPr/>
        </p:nvPicPr>
        <p:blipFill>
          <a:blip r:embed="rId3"/>
          <a:stretch/>
        </p:blipFill>
        <p:spPr>
          <a:xfrm>
            <a:off x="2095560" y="1720800"/>
            <a:ext cx="5003640" cy="2000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3gpp.org/Main.htm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image" Target="../media/image15.jpe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wmf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3962520"/>
            <a:ext cx="565632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elivering NLOS Wireless Broadband Using CDMA-Based Solution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743200" y="5029200"/>
            <a:ext cx="349416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Roger Quayle, CTO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ebruary 2002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52680" y="6424560"/>
            <a:ext cx="459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Proprietary and confidential</a:t>
            </a:r>
            <a:r>
              <a:rPr b="0" lang="en-GB" sz="1200" spc="-1" strike="noStrike">
                <a:solidFill>
                  <a:srgbClr val="000058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- subject to nondisclosure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Portability and Mobilit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supports fixed, portable and mobile environ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amental requirement to support high speed mo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ble and fixed operation comes for free, and with higher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cessary techniques for coping with high speed are inherent in the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 Frame and Burst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 Channe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leaving, FEC, Rate Matching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cell selection / reselection and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IPWireless TD-CDMA solution supports mobility at 70mph (as per standard), and in practice 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Further Enhancemen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HSPD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igh speed downlink packet ac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order modulation, additional coding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users in good C/I conditions fully utilize capability of radio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rates up to 16 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rt Antennas in UM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i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a powerful air interface that can achieve maximum performance through signal processing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ter to achieve performance in silicon than in “ironwor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supports smart antennas as an enhancement, IPWireless plans to implement in accordance with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 antennas have most benefit in capacity (reduced C/I) rather than coverage (as proven in cellular implement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Cloud"/>
          <p:cNvSpPr/>
          <p:nvPr/>
        </p:nvSpPr>
        <p:spPr>
          <a:xfrm>
            <a:off x="380880" y="4267080"/>
            <a:ext cx="8229600" cy="1905120"/>
          </a:xfrm>
          <a:prstGeom prst="pie">
            <a:avLst/>
          </a:prstGeom>
          <a:solidFill>
            <a:srgbClr val="cafdc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3520" y="3657600"/>
          <a:ext cx="220032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2003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Economy of Scale in Serving Multiple Marke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5172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UMTS (such as IPWireless), an operator enjoys the economies of scale of a single infrastructure investment serving multiple market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0240" y="3276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8000" y="32767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Por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30120" y="32004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9280" y="5051520"/>
            <a:ext cx="1263600" cy="231840"/>
          </a:xfrm>
          <a:prstGeom prst="ellipse">
            <a:avLst/>
          </a:prstGeom>
          <a:gradFill rotWithShape="0">
            <a:gsLst>
              <a:gs pos="0">
                <a:srgbClr val="7c92a4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8880" y="5334120"/>
            <a:ext cx="29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UMTS TD-CDMA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38080" y="4114800"/>
          <a:ext cx="2237040" cy="11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114800"/>
                    <a:ext cx="223704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3276720" y="3276720"/>
            <a:ext cx="2742840" cy="1932480"/>
            <a:chOff x="3276720" y="3276720"/>
            <a:chExt cx="2742840" cy="1932480"/>
          </a:xfrm>
        </p:grpSpPr>
        <p:sp>
          <p:nvSpPr>
            <p:cNvPr id="151" name=""/>
            <p:cNvSpPr/>
            <p:nvPr/>
          </p:nvSpPr>
          <p:spPr>
            <a:xfrm>
              <a:off x="3276720" y="3276720"/>
              <a:ext cx="2742840" cy="230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e2e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3639600" y="3739680"/>
              <a:ext cx="2013840" cy="1469520"/>
              <a:chOff x="3639600" y="3739680"/>
              <a:chExt cx="2013840" cy="1469520"/>
            </a:xfrm>
          </p:grpSpPr>
          <p:sp>
            <p:nvSpPr>
              <p:cNvPr id="153" name=""/>
              <p:cNvSpPr/>
              <p:nvPr/>
            </p:nvSpPr>
            <p:spPr>
              <a:xfrm>
                <a:off x="3733920" y="3918240"/>
                <a:ext cx="1919520" cy="1290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4" name="airportBU004285" descr=""/>
              <p:cNvPicPr/>
              <p:nvPr/>
            </p:nvPicPr>
            <p:blipFill>
              <a:blip r:embed="rId5"/>
              <a:stretch/>
            </p:blipFill>
            <p:spPr>
              <a:xfrm>
                <a:off x="3639600" y="3739680"/>
                <a:ext cx="1894680" cy="1317600"/>
              </a:xfrm>
              <a:prstGeom prst="rect">
                <a:avLst/>
              </a:prstGeom>
              <a:ln w="19080">
                <a:solidFill>
                  <a:srgbClr val="aab8c4"/>
                </a:solidFill>
                <a:miter/>
              </a:ln>
            </p:spPr>
          </p:pic>
        </p:grpSp>
      </p:grpSp>
      <p:graphicFrame>
        <p:nvGraphicFramePr>
          <p:cNvPr id="155" name=""/>
          <p:cNvGraphicFramePr/>
          <p:nvPr/>
        </p:nvGraphicFramePr>
        <p:xfrm>
          <a:off x="6019920" y="4267080"/>
          <a:ext cx="1946160" cy="836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4267080"/>
                    <a:ext cx="19461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07760" y="1828440"/>
            <a:ext cx="707868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 provide the most powerful and flexible foundation for broadband 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D-CDMA branch of UMTS is best for high speed packet data, TDD advantageous in fragmente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n LOS operation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ity and portability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MTS provides a level of sophistication and performance which cannot easily be dupl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rnational standards essential for major worldwide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7691" t="0" r="2244" b="3722"/>
          <a:stretch/>
        </p:blipFill>
        <p:spPr>
          <a:xfrm>
            <a:off x="6019920" y="1752480"/>
            <a:ext cx="3327120" cy="4395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Today’s Discuss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93600" y="1828440"/>
            <a:ext cx="496404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CDMA is created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Standards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UMTS TD-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 of UMTS TD-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Wireless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– coverage, throughput, mobility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Why CDMA?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9040" y="1904760"/>
            <a:ext cx="70074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international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ed over other candidates (TDMA, OFDM) for UMTS 3G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form is noise-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-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ity to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C/I performance – permits n=1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 in spreading, coding,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g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channels mutually non-interf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0452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Not all CDMA is Created Equal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1040" y="1828440"/>
            <a:ext cx="69357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ma 2000 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technology, evolution from IS-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ations imposed by narrow channels, legac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ccepted in European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SCDM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hinese version, low chip r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chiprate (narrow channel) limits broadban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uplink no use in non-LOS multipath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cceptance outside of Chines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tary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es standards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 to be less sophisticated in systems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CDMA high chip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0455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TD-CDMA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HCR)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designed from the outset to serv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xed portable and mobile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is inherently broadband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, wide channel bandwidths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technology model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herently enables non-LOS, self-installation, roaming,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operation in fragmented spectrum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y adjustment to match Internet traffic (a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 wide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ge economies of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market – not limited to Nor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3GPP_logo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228600"/>
            <a:ext cx="20574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Optimizing UMTS for Broadband Internet Acces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sets minimum targets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can be increased while maintaining full standards compliance, using advanced sig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Wireless has chosen 3GPP TD-CD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 structure 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data rates relative to 3GPP F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IP based Cor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Radio Acces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Shared Channel concept fully explo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al multiplexing allows higher cell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TD-CDMA for Broadband Intern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ful link budget – supports large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throughput up to 8 Mbps at 7.68M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release 5 increases to &gt;16 Mb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IPW Optimization Technique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hogonal multi-code trans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 capacity of radio channel (orthogonal code channels mutually non-interf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ies throughput for high speed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ores orthogonality between codes in a multipath environment, effectively “canceling”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ls with near-far effect of multip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vely combines multipath, turning multipath to an adva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0" y="4648320"/>
            <a:ext cx="53640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in Non-Line-of-Sight Opera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47991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requi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system gain to counteract pathloss and building penetration loss,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deal with multi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is inherent in UM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undamental requirement for mobile and portable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MTS 30-03 ‘channel B” specifies a 6 path model, each path individually Rayleigh faded, with a multipath delay spread up to 4 microces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TD-CDMA solution from IPWirel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hieves high system gain through orthogonal multicode and joint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ively combines multipath, increasing effective receiver sensitivity (function of joint detec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9116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onstructive Combining of Multipath Using Joint Detec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62120" y="3733920"/>
          <a:ext cx="907920" cy="15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733920"/>
                    <a:ext cx="907920" cy="15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743200" y="1676520"/>
          <a:ext cx="1050840" cy="13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1676520"/>
                    <a:ext cx="105084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124080" y="3886200"/>
          <a:ext cx="1752840" cy="96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3886200"/>
                    <a:ext cx="175284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286000" y="5622840"/>
          <a:ext cx="1600200" cy="101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5622840"/>
                    <a:ext cx="160020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467480" y="1981080"/>
          <a:ext cx="1295640" cy="83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67480" y="1981080"/>
                    <a:ext cx="1295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486400" y="3505320"/>
          <a:ext cx="1905120" cy="155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3505320"/>
                    <a:ext cx="19051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modem-Exiso02%20copy" descr=""/>
          <p:cNvPicPr/>
          <p:nvPr/>
        </p:nvPicPr>
        <p:blipFill>
          <a:blip r:embed="rId13"/>
          <a:srcRect l="0" t="8282" r="0" b="0"/>
          <a:stretch/>
        </p:blipFill>
        <p:spPr>
          <a:xfrm>
            <a:off x="5943600" y="4419720"/>
            <a:ext cx="498600" cy="600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1676520" y="2438280"/>
            <a:ext cx="18288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2438280"/>
            <a:ext cx="1905120" cy="198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4419720"/>
            <a:ext cx="533520" cy="152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3962520"/>
            <a:ext cx="1371600" cy="1828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895480" y="4800600"/>
            <a:ext cx="3048120" cy="914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162920" y="5181480"/>
          <a:ext cx="1752480" cy="965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162920" y="5181480"/>
                    <a:ext cx="17524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 flipV="1">
            <a:off x="1600200" y="2514600"/>
            <a:ext cx="59436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248520" y="2590920"/>
            <a:ext cx="1295280" cy="1904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2590920"/>
            <a:ext cx="380880" cy="2666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6400440" y="4724280"/>
            <a:ext cx="152388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5334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6248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548640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62485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5486400"/>
            <a:ext cx="609840" cy="76212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0" y="480"/>
                </a:moveTo>
                <a:lnTo>
                  <a:pt x="0" y="0"/>
                </a:lnTo>
                <a:lnTo>
                  <a:pt x="48" y="432"/>
                </a:lnTo>
                <a:lnTo>
                  <a:pt x="48" y="192"/>
                </a:lnTo>
                <a:lnTo>
                  <a:pt x="96" y="432"/>
                </a:lnTo>
                <a:lnTo>
                  <a:pt x="96" y="240"/>
                </a:lnTo>
                <a:lnTo>
                  <a:pt x="144" y="432"/>
                </a:lnTo>
                <a:lnTo>
                  <a:pt x="144" y="96"/>
                </a:lnTo>
                <a:lnTo>
                  <a:pt x="192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16:44:17Z</dcterms:created>
  <dc:creator>Roger</dc:creator>
  <dc:description/>
  <dc:language>en-US</dc:language>
  <cp:lastModifiedBy>Roger</cp:lastModifiedBy>
  <dcterms:modified xsi:type="dcterms:W3CDTF">2002-02-10T03:36:26Z</dcterms:modified>
  <cp:revision>11</cp:revision>
  <dc:subject/>
  <dc:title>Delivering NLOS Wireless Broadband Using CDMA-Based Solutions</dc:title>
</cp:coreProperties>
</file>