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.png" ContentType="image/png"/>
  <Override PartName="/ppt/media/image25.jpeg" ContentType="image/jpeg"/>
  <Override PartName="/ppt/media/image1.png" ContentType="image/png"/>
  <Override PartName="/ppt/media/image27.wmf" ContentType="image/x-wmf"/>
  <Override PartName="/ppt/media/image16.png" ContentType="image/png"/>
  <Override PartName="/ppt/media/image26.png" ContentType="image/png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0B8-794A-49ED-863A-4C378621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B01-F36D-47FA-A52B-67CDDE37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E90-FEE9-4D47-9D1C-C0CC9C77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B7E-0FF2-4F0A-94DB-26C60F9A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1CA8-FD9E-44F0-BE0A-CECD6574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3FA8-16C5-45A3-9AB1-2594BF2E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17B2-8730-40B1-859B-319F82E4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97B3-5FE7-4E0D-A531-FEAAA66D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197B-951D-4503-A1ED-6075D0B8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FF1B-FB95-420E-8C51-7120FEF1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E223-8E82-4691-808A-A8E28B4C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DD1-0E01-4B41-818C-A29976FC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1316-D13F-469D-BBF8-A50832C4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4F25-79B8-4231-85BE-FD5CB692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2501-2C83-4997-8703-1690EB26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51A1-41E0-4AB2-B5EB-D4F77FC7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2798-AED6-42C5-BF81-6D657BC3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5C0-BCAC-4E17-B410-13727DEF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B12-4870-4226-B441-A1850FCB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5E6-D609-43D1-8C4B-163AD2C6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79D-84B5-4D5D-8533-8AC36538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649-FDA6-4A09-99B9-53E21F6B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D14-56F7-4E41-AE6F-E2ADC6C1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21C-4066-40D2-84B1-F029D369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CE92-9EE2-4805-BB99-41B8E1E78212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86FE-CF64-4E2C-81BB-B3F83B2D33EE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Kontribusi Perpustakaan Pusat ITB:</a:t>
            </a:r>
            <a:br>
              <a:rPr sz="32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onsep, strategi, teknologi, dan jaringan Digital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MRG, AI3, CN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mail Fahmi - Ismail@itb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DD0D-2752-4817-AC89-91D1A5A048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stem WAIS-I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181840" cy="45669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7D44-36A5-4ABB-8FCC-24E2902FC8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ISNetwork server di ITB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ggot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1 Perpustak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+40 buah database CDS/ISIS on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ana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 ho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ll ho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33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419720" cy="39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F5E-AD3F-47E1-8651-E259D83B36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nline shopping &amp; ord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908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971800" cy="2073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552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2438640" cy="2023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9084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2590920" cy="1984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45276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324480" y="4114800"/>
            <a:ext cx="2543400" cy="2489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45276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124080" y="4114800"/>
            <a:ext cx="2924280" cy="2451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5276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152280" y="4114800"/>
            <a:ext cx="2847960" cy="243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48120" y="3352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32767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35053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6019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6019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139-BCD6-4046-8A1F-8397902CF2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Ganesha Digital Librar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562360" y="167652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njadi knowledgebase dari IC ITB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ngan mengelola tacit &amp; explicit knowledge civitas ITB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nggunakan TI yang tepat dan terjangkau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n membuka akses bagi masyarakat secara lua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http://digital.lib.itb.ac.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4A6-A1A7-49A5-9BA2-A26B914044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Map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xplic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Course materi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4E2-3CC8-4C38-A188-ABB9C57AB7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Map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Taci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Mailing list archiv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4E4-1BCB-4EF8-B12C-59D66ACBF2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Captur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555bad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5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512-DE46-4E6F-BA00-621995FA4C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Access &amp; Dissemin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9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0" name=""/>
          <p:cNvCxnSpPr>
            <a:stCxn id="198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198" idx="4"/>
            <a:endCxn id="203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EE93-92F7-4C96-8C8E-1525F32714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Pres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04F-313C-44C6-81E6-92C4FB7CD5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ampus Network Top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CC1-3137-47C9-82AC-88C819FC76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kilas tentang Knowledge Manag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KM di PP IT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ISNetwork, One Stop Shop for Libraries Servi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anesha Digital Libra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ringan Digital Library: Nasional &amp; Internas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Free-Software: GNU-Li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3468-BE88-413D-8A0D-2BC5A6E7F7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onfigurasi Serv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at ini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tium 1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64 MB mem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9 GB H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BS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ache + PH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ySQ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IS-ISIS search eng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al ser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Qmail + Ezml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68840" y="1828800"/>
            <a:ext cx="283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00 GB HD (hingga TB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B2E-B8C0-4624-B0A3-29F7086305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Jaringan Digital Library Nasional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971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yek pembuatan sistem jaringan digital library nasional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husus mengelola laporan penelitian, thesis, dan disertasi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34360" y="141120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0D0-7F34-4E8D-AAF9-80BA7DCAC2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kus komunitas targ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hasiswa dan Peneli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bagai komunitas yang kreatif dan inovatif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dusen knowled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pustak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bagai knowledge manager, organis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adigma library sbg information cen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luang linka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D9F-2B9C-42F7-8C7D-81F051C3FD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si hasil penelitian terbuka dan mudah diak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ublikasi hasil penelitian semakin cepat, mudah, dan murah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ualitas lulusan dan hasil penelitiannya mening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manfaatkan hasil penelitian mening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ksternalisasi tacit knowledg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age dengan dunia bisnis, industri, dan masyara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415-A271-42EE-8F64-5B94CFCF30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sasi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laksana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MRG &amp; CNRG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nd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N ASIA/IDRC Singapo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ayasan Litbang Telekomunikasi dan Informatik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NR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n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pport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sian Internet Interconnection Initiatives (AI3)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E78-5332-42C8-A166-C8D6009E69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sasi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rtner (pioneer)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F0E-71B6-481E-A226-7115990DE3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685800" y="228600"/>
          <a:ext cx="82296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82296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digital library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0000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0000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C20-E140-4C43-86FB-02E6D46247CE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utput pro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-Software server Digital Library Netwo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ndard: metadata, naming, submission method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 pengelola di tiap partn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2A06-F6C3-4E31-A461-E992F5DEC0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Jaringan Digital Library Internasional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tukaran knowledgebase (laporan penelitian, tesis, dan disertas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rtner di luar negeri (confirmed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versitas Groningen, Belan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versitas Aalborg, Denma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B sebagai hub/gateway untuk Indones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timasi tahun 20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9306-142A-494A-B5AC-2CF8246DC0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5F6-F321-41F5-8321-3455FCB3F4B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Knowledge Management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744e1d"/>
              </a:gs>
              <a:gs pos="50000">
                <a:srgbClr val="fcab40"/>
              </a:gs>
              <a:gs pos="100000">
                <a:srgbClr val="744e1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555b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053-6BCF-4DC8-A399-F1AF90084D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luang jaringan Internasion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A7A0-003D-44BF-A3CF-16147E44666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a Self-Sustainab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nding hanya diperlukan diaw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anjutnya pola self-sustainabl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 akses ke database metada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ualan CD-ROM database metada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base sebagai modal barter dengan partner internasio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713-012D-4853-BBE1-36144FAEF2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u Plagiatism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tiap orang akan dengan mudah mengetahui hasil / laporan riset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g setiap plagiat akan mudah dilacak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g keinginan berbuat plagiat semakin keci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895-F990-4BD9-86FA-A183B99392E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GNU-Lib, Free-Software Library Automation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-Softwar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erarti “freedom”, “bebas”, “liberty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ukan “gratis”, “harga 0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brary Automatio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orkflow aktifitas perpustakaan dengan bantuan TI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ncarian, peminjaman, pengembalian, denda, pemesanan, perpanjangan, pengadaan buku, keanggotaan, dll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NU-Lib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ject pembuatan Free-Software Library Automa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leh KMRG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3" name="gnu-head-sm" descr=""/>
          <p:cNvPicPr/>
          <p:nvPr/>
        </p:nvPicPr>
        <p:blipFill>
          <a:blip r:embed="rId1"/>
          <a:stretch/>
        </p:blipFill>
        <p:spPr>
          <a:xfrm>
            <a:off x="6553080" y="1447920"/>
            <a:ext cx="2362320" cy="2233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939000" y="5410080"/>
            <a:ext cx="120636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ahun in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311-6336-4E7D-8346-C2CA8B78740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eatu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164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ngsi library automation pada umumny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b akses: online search, pesan, perpanjangan, d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ail aler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code enabl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324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8164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E0A-F536-4B01-A743-D8CF02C44F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ard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erver, minimum requirem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entium 100 MHz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32 MB Mem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4 GB H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thernet car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lient, minimum requirem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rocessor 48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16 MB Mem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No H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thernet car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ption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Mod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nternet connection to ISP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400-9C79-4962-8EF6-FF312ACC07C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erver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perating system: Linux or Unix FreeBS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atabase server: MySQ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Scripting language: Per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Web server: Apache + PH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ail server: Qmai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li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OS with TCP/IP applicat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ption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for barcode printing, using Windows 95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980-85F9-4157-A593-395C3C80263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imakasi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74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FE4-2415-404D-8362-9C8DD9C4B2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ve K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4e1d"/>
              </a:gs>
              <a:gs pos="50000">
                <a:srgbClr val="fcab40"/>
              </a:gs>
              <a:gs pos="100000">
                <a:srgbClr val="744e1d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24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8E3-FFF2-4DEA-81E8-1B38F696C9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27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744e1d"/>
                </a:gs>
                <a:gs pos="50000">
                  <a:srgbClr val="fcab40"/>
                </a:gs>
                <a:gs pos="100000">
                  <a:srgbClr val="744e1d"/>
                </a:gs>
              </a:gsLst>
              <a:lin ang="10800000"/>
            </a:gra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ikator Keberhasil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1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3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E9E-AF20-4E57-B62D-8B1E19B0F3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unci suks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daya “knowledge-friendly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ujuan dan Bahasa yang jel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 transfer dengan berbagai jal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kungan senior manajem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62D-2D9A-410F-8514-5C85C7DCF7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Project KM di PP ITB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nuju masyarakat berbasis ilmu pengetahuan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lalui pengelolaan modal intelektual secara efektif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nggunakan teknologi informasi yang tepat dan terjangkau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D6B-7955-4E79-9BF5-65E2397616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rateg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-Software/Open-Sour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mbangun tool DL yang  “free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ngelola dan membuka akses ke IC IT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are teknologi DL dan membangun jaringan D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mosi komunitas “knowledge-sharing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A1A-870A-4AC4-97D3-1804939752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ISNetwork, One Stop Sho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81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934320" cy="5064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370240" y="2133720"/>
            <a:ext cx="3292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http://isisnetwork.lib.itb.ac.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87E-52C3-47E6-B4A2-3AE5D80A0A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8:51:05Z</dcterms:created>
  <dc:creator>Ismail Fahmi</dc:creator>
  <dc:description/>
  <dc:language>en-US</dc:language>
  <cp:lastModifiedBy>Ismail Fahmi</cp:lastModifiedBy>
  <dcterms:modified xsi:type="dcterms:W3CDTF">2000-06-30T01:13:32Z</dcterms:modified>
  <cp:revision>39</cp:revision>
  <dc:subject/>
  <dc:title>Leveraging Intellectual Capital Assets within Research &amp; Education Institutions</dc:title>
</cp:coreProperties>
</file>