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40C8-BB67-4BB8-9B42-B48B1DC1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6A03-8730-4B36-B4DC-50ADDF59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019-F86C-48D0-BA02-BBD1CA86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E072-09D6-4550-B452-2126D86E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3E40-B01E-47E0-A224-B2B7BF7E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636F-6C34-4575-B010-98E27241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873F-06D1-4B09-AFE1-309CDBE2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4E20-5575-48C5-AA52-6BD0C0CE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EC64-80A3-4BBF-A34E-1D941F41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0754-F83D-4C73-920F-956353DA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55DE-A6AE-4D46-A472-4EB57BA9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6D28-CEC7-48AD-AC98-63353BDF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C54D-D4C1-4C14-B9FC-A4E37064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154F-FD19-4163-85D6-4634063C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EDE5-8D4E-46E6-95A5-E9928A1B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D0CA-B2CB-4826-B165-4D69E960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6E31-67E5-452C-B17B-A59D5071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3C6B-B869-4627-9368-C999295F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564-8FC0-4BD7-97D1-DB885D60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F5AE-2A3B-43E9-B213-B73299CE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B00B-F5B5-4227-A17B-F03299FB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02C-FA8E-4C00-A14D-96821831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B922-3DCA-4675-A857-C26AC27A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E49D-87C3-40C7-953F-259E9F94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E237-E63D-419C-8766-F646E70140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F371-83CD-4FC2-93BC-58AD74AC59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ndltd.org/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alisasi Internet dalam Meningkatkan Mutu Pendidik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mail Fahmi, Ir -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Ismail@itb.ac.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ledge Management Research Group IT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ar Nasional STMIK Jabar 8 Agustus 2000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ayakarta Hot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bih bersifat Sos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08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ang kopi (informal) lebih efektif untuk belajar dari pada ruang kelas (form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stanford_study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45259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Kompo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cloud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6046920" cy="4235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07720" y="2792520"/>
            <a:ext cx="38120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f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:many even vir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:1 men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ul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labbor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etency road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h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stem manajemen “learn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stem Manajemen “Learning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lms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70293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eBisn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hubungan deng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ly-chain opt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langnya intermedi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bang perangkap (pitfall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si; penyedia eLearning bermil-mil dari monitor learner. Tanpa motivasi tak akan ada koneksi akhir ke pikiran lear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trasi; belajar melalui desktop, diantara berbagai ganggungan telepon, teman, tetangga, anak, tv, d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isien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ducational psychologist William Glasser mengatakan, kita belaj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0% of what we 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0% of what we h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0% of what we s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0% of what we see &amp; h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70% of what we discus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80% of what we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95% of what we teach someone 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luang kegaga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ualitas dan intensitas mat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tersediaan mat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biasaan, sifat, dan buday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knologi pengiriman materi -- bandwidth, dl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la pembiaya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kurangan dari model kolaborasi digi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ap dalam ri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alibrasi dari ekspekt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Elliott Masie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eLearning Briefing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January 2000, Seatt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ngka Pend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ingkat kebutuhan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jemen berbasis standard (XM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ngka Panj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lli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bedded dalam perangk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l” learning menggunakan berbagai media (multimed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simpulan 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cok untu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usahaan &amp; pegaw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 jangka pendek (ski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gaimana denga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jaran etika dan mo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sialisasi, bermasyarak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lum tergantikan oleh eLearnin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Knowledge Managemen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532440" y="3124080"/>
            <a:ext cx="2365920" cy="1551600"/>
          </a:xfrm>
          <a:prstGeom prst="rect">
            <a:avLst/>
          </a:prstGeom>
          <a:gradFill rotWithShape="0">
            <a:gsLst>
              <a:gs pos="0">
                <a:srgbClr val="00694d"/>
              </a:gs>
              <a:gs pos="50000">
                <a:srgbClr val="00e4a8"/>
              </a:gs>
              <a:gs pos="100000">
                <a:srgbClr val="00694d"/>
              </a:gs>
            </a:gsLst>
            <a:lin ang="10800000"/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k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s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j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3276720"/>
            <a:ext cx="1778040" cy="2325600"/>
          </a:xfrm>
          <a:custGeom>
            <a:avLst/>
            <a:gdLst/>
            <a:ahLst/>
            <a:rect l="l" t="t" r="r" b="b"/>
            <a:pathLst>
              <a:path w="1120" h="1465">
                <a:moveTo>
                  <a:pt x="0" y="712"/>
                </a:moveTo>
                <a:cubicBezTo>
                  <a:pt x="6" y="644"/>
                  <a:pt x="2" y="574"/>
                  <a:pt x="17" y="508"/>
                </a:cubicBezTo>
                <a:cubicBezTo>
                  <a:pt x="20" y="496"/>
                  <a:pt x="42" y="500"/>
                  <a:pt x="51" y="491"/>
                </a:cubicBezTo>
                <a:cubicBezTo>
                  <a:pt x="60" y="482"/>
                  <a:pt x="60" y="467"/>
                  <a:pt x="68" y="457"/>
                </a:cubicBezTo>
                <a:cubicBezTo>
                  <a:pt x="122" y="392"/>
                  <a:pt x="116" y="400"/>
                  <a:pt x="169" y="373"/>
                </a:cubicBezTo>
                <a:cubicBezTo>
                  <a:pt x="227" y="257"/>
                  <a:pt x="134" y="434"/>
                  <a:pt x="220" y="305"/>
                </a:cubicBezTo>
                <a:cubicBezTo>
                  <a:pt x="263" y="241"/>
                  <a:pt x="266" y="174"/>
                  <a:pt x="322" y="119"/>
                </a:cubicBezTo>
                <a:cubicBezTo>
                  <a:pt x="328" y="108"/>
                  <a:pt x="329" y="93"/>
                  <a:pt x="339" y="85"/>
                </a:cubicBezTo>
                <a:cubicBezTo>
                  <a:pt x="393" y="42"/>
                  <a:pt x="476" y="16"/>
                  <a:pt x="542" y="0"/>
                </a:cubicBezTo>
                <a:cubicBezTo>
                  <a:pt x="559" y="6"/>
                  <a:pt x="577" y="10"/>
                  <a:pt x="593" y="17"/>
                </a:cubicBezTo>
                <a:cubicBezTo>
                  <a:pt x="616" y="27"/>
                  <a:pt x="661" y="51"/>
                  <a:pt x="661" y="51"/>
                </a:cubicBezTo>
                <a:cubicBezTo>
                  <a:pt x="681" y="81"/>
                  <a:pt x="709" y="105"/>
                  <a:pt x="728" y="136"/>
                </a:cubicBezTo>
                <a:cubicBezTo>
                  <a:pt x="841" y="317"/>
                  <a:pt x="896" y="524"/>
                  <a:pt x="1050" y="678"/>
                </a:cubicBezTo>
                <a:cubicBezTo>
                  <a:pt x="1120" y="884"/>
                  <a:pt x="1040" y="1105"/>
                  <a:pt x="949" y="1288"/>
                </a:cubicBezTo>
                <a:cubicBezTo>
                  <a:pt x="861" y="1465"/>
                  <a:pt x="554" y="1299"/>
                  <a:pt x="356" y="1304"/>
                </a:cubicBezTo>
                <a:cubicBezTo>
                  <a:pt x="296" y="1364"/>
                  <a:pt x="294" y="1356"/>
                  <a:pt x="203" y="1338"/>
                </a:cubicBezTo>
                <a:cubicBezTo>
                  <a:pt x="149" y="1285"/>
                  <a:pt x="114" y="1228"/>
                  <a:pt x="51" y="1186"/>
                </a:cubicBezTo>
                <a:cubicBezTo>
                  <a:pt x="0" y="980"/>
                  <a:pt x="58" y="1232"/>
                  <a:pt x="17" y="745"/>
                </a:cubicBezTo>
                <a:cubicBezTo>
                  <a:pt x="16" y="733"/>
                  <a:pt x="0" y="712"/>
                  <a:pt x="0" y="712"/>
                </a:cubicBez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71920" y="3267000"/>
            <a:ext cx="1309680" cy="914400"/>
          </a:xfrm>
          <a:custGeom>
            <a:avLst/>
            <a:gdLst/>
            <a:ahLst/>
            <a:rect l="l" t="t" r="r" b="b"/>
            <a:pathLst>
              <a:path w="825" h="576">
                <a:moveTo>
                  <a:pt x="21" y="441"/>
                </a:moveTo>
                <a:lnTo>
                  <a:pt x="190" y="492"/>
                </a:lnTo>
                <a:cubicBezTo>
                  <a:pt x="190" y="492"/>
                  <a:pt x="190" y="492"/>
                  <a:pt x="190" y="492"/>
                </a:cubicBezTo>
                <a:cubicBezTo>
                  <a:pt x="235" y="503"/>
                  <a:pt x="284" y="505"/>
                  <a:pt x="326" y="526"/>
                </a:cubicBezTo>
                <a:cubicBezTo>
                  <a:pt x="414" y="569"/>
                  <a:pt x="369" y="553"/>
                  <a:pt x="461" y="576"/>
                </a:cubicBezTo>
                <a:cubicBezTo>
                  <a:pt x="505" y="572"/>
                  <a:pt x="652" y="563"/>
                  <a:pt x="715" y="542"/>
                </a:cubicBezTo>
                <a:cubicBezTo>
                  <a:pt x="739" y="534"/>
                  <a:pt x="783" y="509"/>
                  <a:pt x="783" y="509"/>
                </a:cubicBezTo>
                <a:cubicBezTo>
                  <a:pt x="794" y="486"/>
                  <a:pt x="825" y="465"/>
                  <a:pt x="817" y="441"/>
                </a:cubicBezTo>
                <a:cubicBezTo>
                  <a:pt x="800" y="389"/>
                  <a:pt x="798" y="364"/>
                  <a:pt x="749" y="339"/>
                </a:cubicBezTo>
                <a:cubicBezTo>
                  <a:pt x="740" y="292"/>
                  <a:pt x="722" y="152"/>
                  <a:pt x="681" y="119"/>
                </a:cubicBezTo>
                <a:cubicBezTo>
                  <a:pt x="651" y="94"/>
                  <a:pt x="600" y="80"/>
                  <a:pt x="563" y="68"/>
                </a:cubicBezTo>
                <a:cubicBezTo>
                  <a:pt x="538" y="19"/>
                  <a:pt x="513" y="17"/>
                  <a:pt x="461" y="0"/>
                </a:cubicBezTo>
                <a:cubicBezTo>
                  <a:pt x="384" y="15"/>
                  <a:pt x="311" y="33"/>
                  <a:pt x="241" y="68"/>
                </a:cubicBezTo>
                <a:cubicBezTo>
                  <a:pt x="212" y="126"/>
                  <a:pt x="217" y="173"/>
                  <a:pt x="156" y="204"/>
                </a:cubicBezTo>
                <a:cubicBezTo>
                  <a:pt x="150" y="215"/>
                  <a:pt x="148" y="229"/>
                  <a:pt x="139" y="238"/>
                </a:cubicBezTo>
                <a:cubicBezTo>
                  <a:pt x="130" y="247"/>
                  <a:pt x="113" y="244"/>
                  <a:pt x="105" y="254"/>
                </a:cubicBezTo>
                <a:cubicBezTo>
                  <a:pt x="73" y="293"/>
                  <a:pt x="30" y="406"/>
                  <a:pt x="4" y="458"/>
                </a:cubicBezTo>
                <a:cubicBezTo>
                  <a:pt x="0" y="465"/>
                  <a:pt x="15" y="447"/>
                  <a:pt x="21" y="441"/>
                </a:cubicBez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3886200"/>
            <a:ext cx="3174840" cy="220680"/>
          </a:xfrm>
          <a:custGeom>
            <a:avLst/>
            <a:gdLst/>
            <a:ahLst/>
            <a:rect l="l" t="t" r="r" b="b"/>
            <a:pathLst>
              <a:path w="2000" h="139">
                <a:moveTo>
                  <a:pt x="0" y="55"/>
                </a:moveTo>
                <a:cubicBezTo>
                  <a:pt x="90" y="73"/>
                  <a:pt x="91" y="84"/>
                  <a:pt x="187" y="55"/>
                </a:cubicBezTo>
                <a:cubicBezTo>
                  <a:pt x="211" y="48"/>
                  <a:pt x="255" y="21"/>
                  <a:pt x="255" y="21"/>
                </a:cubicBezTo>
                <a:cubicBezTo>
                  <a:pt x="311" y="50"/>
                  <a:pt x="362" y="60"/>
                  <a:pt x="424" y="72"/>
                </a:cubicBezTo>
                <a:cubicBezTo>
                  <a:pt x="556" y="57"/>
                  <a:pt x="596" y="41"/>
                  <a:pt x="729" y="72"/>
                </a:cubicBezTo>
                <a:cubicBezTo>
                  <a:pt x="754" y="78"/>
                  <a:pt x="797" y="106"/>
                  <a:pt x="797" y="106"/>
                </a:cubicBezTo>
                <a:cubicBezTo>
                  <a:pt x="887" y="95"/>
                  <a:pt x="941" y="93"/>
                  <a:pt x="1017" y="55"/>
                </a:cubicBezTo>
                <a:cubicBezTo>
                  <a:pt x="1149" y="72"/>
                  <a:pt x="1206" y="97"/>
                  <a:pt x="1339" y="72"/>
                </a:cubicBezTo>
                <a:cubicBezTo>
                  <a:pt x="1385" y="63"/>
                  <a:pt x="1474" y="38"/>
                  <a:pt x="1474" y="38"/>
                </a:cubicBezTo>
                <a:cubicBezTo>
                  <a:pt x="1508" y="44"/>
                  <a:pt x="1543" y="45"/>
                  <a:pt x="1576" y="55"/>
                </a:cubicBezTo>
                <a:cubicBezTo>
                  <a:pt x="1600" y="62"/>
                  <a:pt x="1644" y="89"/>
                  <a:pt x="1644" y="89"/>
                </a:cubicBezTo>
                <a:cubicBezTo>
                  <a:pt x="1757" y="51"/>
                  <a:pt x="1713" y="71"/>
                  <a:pt x="1779" y="38"/>
                </a:cubicBezTo>
                <a:cubicBezTo>
                  <a:pt x="1790" y="44"/>
                  <a:pt x="1819" y="44"/>
                  <a:pt x="1813" y="55"/>
                </a:cubicBezTo>
                <a:cubicBezTo>
                  <a:pt x="1805" y="71"/>
                  <a:pt x="1779" y="65"/>
                  <a:pt x="1762" y="72"/>
                </a:cubicBezTo>
                <a:cubicBezTo>
                  <a:pt x="1750" y="77"/>
                  <a:pt x="1739" y="83"/>
                  <a:pt x="1728" y="89"/>
                </a:cubicBezTo>
                <a:cubicBezTo>
                  <a:pt x="1711" y="83"/>
                  <a:pt x="1660" y="72"/>
                  <a:pt x="1678" y="72"/>
                </a:cubicBezTo>
                <a:cubicBezTo>
                  <a:pt x="1723" y="72"/>
                  <a:pt x="1768" y="89"/>
                  <a:pt x="1813" y="89"/>
                </a:cubicBezTo>
                <a:cubicBezTo>
                  <a:pt x="1876" y="89"/>
                  <a:pt x="1938" y="78"/>
                  <a:pt x="2000" y="72"/>
                </a:cubicBezTo>
                <a:cubicBezTo>
                  <a:pt x="1943" y="49"/>
                  <a:pt x="1889" y="19"/>
                  <a:pt x="1830" y="4"/>
                </a:cubicBezTo>
                <a:cubicBezTo>
                  <a:pt x="1814" y="0"/>
                  <a:pt x="1851" y="28"/>
                  <a:pt x="1864" y="38"/>
                </a:cubicBezTo>
                <a:cubicBezTo>
                  <a:pt x="1884" y="53"/>
                  <a:pt x="1928" y="65"/>
                  <a:pt x="1949" y="72"/>
                </a:cubicBezTo>
                <a:cubicBezTo>
                  <a:pt x="1859" y="78"/>
                  <a:pt x="1768" y="76"/>
                  <a:pt x="1678" y="89"/>
                </a:cubicBezTo>
                <a:cubicBezTo>
                  <a:pt x="1653" y="93"/>
                  <a:pt x="1610" y="123"/>
                  <a:pt x="1610" y="123"/>
                </a:cubicBezTo>
                <a:cubicBezTo>
                  <a:pt x="1479" y="111"/>
                  <a:pt x="1376" y="96"/>
                  <a:pt x="1254" y="55"/>
                </a:cubicBezTo>
                <a:cubicBezTo>
                  <a:pt x="1177" y="132"/>
                  <a:pt x="1215" y="109"/>
                  <a:pt x="1152" y="139"/>
                </a:cubicBezTo>
                <a:cubicBezTo>
                  <a:pt x="1090" y="134"/>
                  <a:pt x="1026" y="138"/>
                  <a:pt x="966" y="123"/>
                </a:cubicBezTo>
                <a:cubicBezTo>
                  <a:pt x="954" y="120"/>
                  <a:pt x="962" y="89"/>
                  <a:pt x="949" y="89"/>
                </a:cubicBezTo>
                <a:cubicBezTo>
                  <a:pt x="880" y="89"/>
                  <a:pt x="746" y="123"/>
                  <a:pt x="746" y="123"/>
                </a:cubicBezTo>
                <a:cubicBezTo>
                  <a:pt x="603" y="75"/>
                  <a:pt x="448" y="120"/>
                  <a:pt x="305" y="72"/>
                </a:cubicBezTo>
                <a:cubicBezTo>
                  <a:pt x="186" y="113"/>
                  <a:pt x="335" y="72"/>
                  <a:pt x="187" y="72"/>
                </a:cubicBezTo>
                <a:cubicBezTo>
                  <a:pt x="169" y="72"/>
                  <a:pt x="154" y="91"/>
                  <a:pt x="136" y="89"/>
                </a:cubicBezTo>
                <a:cubicBezTo>
                  <a:pt x="89" y="85"/>
                  <a:pt x="45" y="66"/>
                  <a:pt x="0" y="55"/>
                </a:cubicBezTo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715000" y="2971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59960" y="26305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6800" y="46483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6172200" y="47242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WB01161_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424400" y="41911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3505320"/>
            <a:ext cx="990360" cy="380880"/>
          </a:xfrm>
          <a:prstGeom prst="rightArrow">
            <a:avLst>
              <a:gd name="adj1" fmla="val 50000"/>
              <a:gd name="adj2" fmla="val 65005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didikan di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Libr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 K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2743200"/>
            <a:ext cx="2743200" cy="2057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94d"/>
              </a:gs>
              <a:gs pos="50000">
                <a:srgbClr val="00e4a8"/>
              </a:gs>
              <a:gs pos="100000">
                <a:srgbClr val="00694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3657600"/>
            <a:ext cx="1524240" cy="533520"/>
          </a:xfrm>
          <a:prstGeom prst="leftRightArrow">
            <a:avLst>
              <a:gd name="adj1" fmla="val 50000"/>
              <a:gd name="adj2" fmla="val 56874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01080" y="434340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e01561_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1986120" cy="1317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022440" y="1905120"/>
            <a:ext cx="19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BS00005A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1006200" cy="1154160"/>
          </a:xfrm>
          <a:prstGeom prst="rect">
            <a:avLst/>
          </a:prstGeom>
          <a:ln w="0">
            <a:noFill/>
          </a:ln>
        </p:spPr>
      </p:pic>
      <p:pic>
        <p:nvPicPr>
          <p:cNvPr id="160" name="WB01513_" descr=""/>
          <p:cNvPicPr/>
          <p:nvPr/>
        </p:nvPicPr>
        <p:blipFill>
          <a:blip r:embed="rId3"/>
          <a:stretch/>
        </p:blipFill>
        <p:spPr>
          <a:xfrm>
            <a:off x="1828800" y="502920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8200" y="5257800"/>
            <a:ext cx="177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s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048120" y="2743200"/>
            <a:ext cx="1778040" cy="2334960"/>
            <a:chOff x="3048120" y="2743200"/>
            <a:chExt cx="1778040" cy="2334960"/>
          </a:xfrm>
        </p:grpSpPr>
        <p:sp>
          <p:nvSpPr>
            <p:cNvPr id="163" name=""/>
            <p:cNvSpPr/>
            <p:nvPr/>
          </p:nvSpPr>
          <p:spPr>
            <a:xfrm>
              <a:off x="3048120" y="2752560"/>
              <a:ext cx="1778040" cy="2325600"/>
            </a:xfrm>
            <a:custGeom>
              <a:avLst/>
              <a:gdLst/>
              <a:ahLst/>
              <a:rect l="l" t="t" r="r" b="b"/>
              <a:pathLst>
                <a:path w="1120" h="1465">
                  <a:moveTo>
                    <a:pt x="0" y="712"/>
                  </a:moveTo>
                  <a:cubicBezTo>
                    <a:pt x="6" y="644"/>
                    <a:pt x="2" y="574"/>
                    <a:pt x="17" y="508"/>
                  </a:cubicBezTo>
                  <a:cubicBezTo>
                    <a:pt x="20" y="496"/>
                    <a:pt x="42" y="500"/>
                    <a:pt x="51" y="491"/>
                  </a:cubicBezTo>
                  <a:cubicBezTo>
                    <a:pt x="60" y="482"/>
                    <a:pt x="60" y="467"/>
                    <a:pt x="68" y="457"/>
                  </a:cubicBezTo>
                  <a:cubicBezTo>
                    <a:pt x="122" y="392"/>
                    <a:pt x="116" y="400"/>
                    <a:pt x="169" y="373"/>
                  </a:cubicBezTo>
                  <a:cubicBezTo>
                    <a:pt x="227" y="257"/>
                    <a:pt x="134" y="434"/>
                    <a:pt x="220" y="305"/>
                  </a:cubicBezTo>
                  <a:cubicBezTo>
                    <a:pt x="263" y="241"/>
                    <a:pt x="266" y="174"/>
                    <a:pt x="322" y="119"/>
                  </a:cubicBezTo>
                  <a:cubicBezTo>
                    <a:pt x="328" y="108"/>
                    <a:pt x="329" y="93"/>
                    <a:pt x="339" y="85"/>
                  </a:cubicBezTo>
                  <a:cubicBezTo>
                    <a:pt x="393" y="42"/>
                    <a:pt x="476" y="16"/>
                    <a:pt x="542" y="0"/>
                  </a:cubicBezTo>
                  <a:cubicBezTo>
                    <a:pt x="559" y="6"/>
                    <a:pt x="577" y="10"/>
                    <a:pt x="593" y="17"/>
                  </a:cubicBezTo>
                  <a:cubicBezTo>
                    <a:pt x="616" y="27"/>
                    <a:pt x="661" y="51"/>
                    <a:pt x="661" y="51"/>
                  </a:cubicBezTo>
                  <a:cubicBezTo>
                    <a:pt x="681" y="81"/>
                    <a:pt x="709" y="105"/>
                    <a:pt x="728" y="136"/>
                  </a:cubicBezTo>
                  <a:cubicBezTo>
                    <a:pt x="841" y="317"/>
                    <a:pt x="896" y="524"/>
                    <a:pt x="1050" y="678"/>
                  </a:cubicBezTo>
                  <a:cubicBezTo>
                    <a:pt x="1120" y="884"/>
                    <a:pt x="1040" y="1105"/>
                    <a:pt x="949" y="1288"/>
                  </a:cubicBezTo>
                  <a:cubicBezTo>
                    <a:pt x="861" y="1465"/>
                    <a:pt x="554" y="1299"/>
                    <a:pt x="356" y="1304"/>
                  </a:cubicBezTo>
                  <a:cubicBezTo>
                    <a:pt x="296" y="1364"/>
                    <a:pt x="294" y="1356"/>
                    <a:pt x="203" y="1338"/>
                  </a:cubicBezTo>
                  <a:cubicBezTo>
                    <a:pt x="149" y="1285"/>
                    <a:pt x="114" y="1228"/>
                    <a:pt x="51" y="1186"/>
                  </a:cubicBezTo>
                  <a:cubicBezTo>
                    <a:pt x="0" y="980"/>
                    <a:pt x="58" y="1232"/>
                    <a:pt x="17" y="745"/>
                  </a:cubicBezTo>
                  <a:cubicBezTo>
                    <a:pt x="16" y="733"/>
                    <a:pt x="0" y="712"/>
                    <a:pt x="0" y="7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94d"/>
                </a:gs>
                <a:gs pos="50000">
                  <a:srgbClr val="00e4a8"/>
                </a:gs>
                <a:gs pos="100000">
                  <a:srgbClr val="00694d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76640" y="2743200"/>
              <a:ext cx="1309680" cy="914400"/>
            </a:xfrm>
            <a:custGeom>
              <a:avLst/>
              <a:gdLst/>
              <a:ahLst/>
              <a:rect l="l" t="t" r="r" b="b"/>
              <a:pathLst>
                <a:path w="825" h="576">
                  <a:moveTo>
                    <a:pt x="21" y="441"/>
                  </a:moveTo>
                  <a:lnTo>
                    <a:pt x="190" y="492"/>
                  </a:lnTo>
                  <a:cubicBezTo>
                    <a:pt x="190" y="492"/>
                    <a:pt x="190" y="492"/>
                    <a:pt x="190" y="492"/>
                  </a:cubicBezTo>
                  <a:cubicBezTo>
                    <a:pt x="235" y="503"/>
                    <a:pt x="284" y="505"/>
                    <a:pt x="326" y="526"/>
                  </a:cubicBezTo>
                  <a:cubicBezTo>
                    <a:pt x="414" y="569"/>
                    <a:pt x="369" y="553"/>
                    <a:pt x="461" y="576"/>
                  </a:cubicBezTo>
                  <a:cubicBezTo>
                    <a:pt x="505" y="572"/>
                    <a:pt x="652" y="563"/>
                    <a:pt x="715" y="542"/>
                  </a:cubicBezTo>
                  <a:cubicBezTo>
                    <a:pt x="739" y="534"/>
                    <a:pt x="783" y="509"/>
                    <a:pt x="783" y="509"/>
                  </a:cubicBezTo>
                  <a:cubicBezTo>
                    <a:pt x="794" y="486"/>
                    <a:pt x="825" y="465"/>
                    <a:pt x="817" y="441"/>
                  </a:cubicBezTo>
                  <a:cubicBezTo>
                    <a:pt x="800" y="389"/>
                    <a:pt x="798" y="364"/>
                    <a:pt x="749" y="339"/>
                  </a:cubicBezTo>
                  <a:cubicBezTo>
                    <a:pt x="740" y="292"/>
                    <a:pt x="722" y="152"/>
                    <a:pt x="681" y="119"/>
                  </a:cubicBezTo>
                  <a:cubicBezTo>
                    <a:pt x="651" y="94"/>
                    <a:pt x="600" y="80"/>
                    <a:pt x="563" y="68"/>
                  </a:cubicBezTo>
                  <a:cubicBezTo>
                    <a:pt x="538" y="19"/>
                    <a:pt x="513" y="17"/>
                    <a:pt x="461" y="0"/>
                  </a:cubicBezTo>
                  <a:cubicBezTo>
                    <a:pt x="384" y="15"/>
                    <a:pt x="311" y="33"/>
                    <a:pt x="241" y="68"/>
                  </a:cubicBezTo>
                  <a:cubicBezTo>
                    <a:pt x="212" y="126"/>
                    <a:pt x="217" y="173"/>
                    <a:pt x="156" y="204"/>
                  </a:cubicBezTo>
                  <a:cubicBezTo>
                    <a:pt x="150" y="215"/>
                    <a:pt x="148" y="229"/>
                    <a:pt x="139" y="238"/>
                  </a:cubicBezTo>
                  <a:cubicBezTo>
                    <a:pt x="130" y="247"/>
                    <a:pt x="113" y="244"/>
                    <a:pt x="105" y="254"/>
                  </a:cubicBezTo>
                  <a:cubicBezTo>
                    <a:pt x="73" y="293"/>
                    <a:pt x="30" y="406"/>
                    <a:pt x="4" y="458"/>
                  </a:cubicBezTo>
                  <a:cubicBezTo>
                    <a:pt x="0" y="465"/>
                    <a:pt x="15" y="447"/>
                    <a:pt x="21" y="441"/>
                  </a:cubicBezTo>
                  <a:close/>
                </a:path>
              </a:pathLst>
            </a:cu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590920" y="2666880"/>
            <a:ext cx="2743200" cy="22860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umbuhan Volu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 Penggun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kator Keberhasi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WB01161_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971640" cy="971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132440" y="3849840"/>
            <a:ext cx="1157040" cy="834840"/>
          </a:xfrm>
          <a:custGeom>
            <a:avLst/>
            <a:gdLst/>
            <a:ahLst/>
            <a:rect l="l" t="t" r="r" b="b"/>
            <a:pathLst>
              <a:path w="729" h="526">
                <a:moveTo>
                  <a:pt x="0" y="526"/>
                </a:moveTo>
                <a:cubicBezTo>
                  <a:pt x="37" y="508"/>
                  <a:pt x="85" y="516"/>
                  <a:pt x="119" y="492"/>
                </a:cubicBezTo>
                <a:cubicBezTo>
                  <a:pt x="140" y="477"/>
                  <a:pt x="129" y="432"/>
                  <a:pt x="153" y="424"/>
                </a:cubicBezTo>
                <a:cubicBezTo>
                  <a:pt x="236" y="396"/>
                  <a:pt x="186" y="410"/>
                  <a:pt x="305" y="390"/>
                </a:cubicBezTo>
                <a:cubicBezTo>
                  <a:pt x="362" y="362"/>
                  <a:pt x="333" y="384"/>
                  <a:pt x="373" y="305"/>
                </a:cubicBezTo>
                <a:cubicBezTo>
                  <a:pt x="381" y="289"/>
                  <a:pt x="505" y="248"/>
                  <a:pt x="525" y="238"/>
                </a:cubicBezTo>
                <a:cubicBezTo>
                  <a:pt x="570" y="147"/>
                  <a:pt x="508" y="255"/>
                  <a:pt x="576" y="187"/>
                </a:cubicBezTo>
                <a:cubicBezTo>
                  <a:pt x="585" y="178"/>
                  <a:pt x="585" y="163"/>
                  <a:pt x="593" y="153"/>
                </a:cubicBezTo>
                <a:cubicBezTo>
                  <a:pt x="593" y="153"/>
                  <a:pt x="678" y="68"/>
                  <a:pt x="695" y="51"/>
                </a:cubicBezTo>
                <a:cubicBezTo>
                  <a:pt x="709" y="37"/>
                  <a:pt x="715" y="14"/>
                  <a:pt x="729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bs00561_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1224000" cy="898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562720" y="2590920"/>
            <a:ext cx="838080" cy="1523880"/>
          </a:xfrm>
          <a:custGeom>
            <a:avLst/>
            <a:gdLst>
              <a:gd name="textAreaLeft" fmla="*/ 535320 w 838080"/>
              <a:gd name="textAreaRight" fmla="*/ 838440 w 8380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18"/>
                </a:lnTo>
                <a:cubicBezTo>
                  <a:pt x="10800" y="9518"/>
                  <a:pt x="5400" y="10418"/>
                  <a:pt x="0" y="10418"/>
                </a:cubicBezTo>
                <a:cubicBezTo>
                  <a:pt x="5400" y="10418"/>
                  <a:pt x="10800" y="11318"/>
                  <a:pt x="10800" y="1221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52760" y="4278240"/>
            <a:ext cx="27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umbuhan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ng dihubungkan 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BS00612A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666880" y="4495680"/>
            <a:ext cx="381240" cy="1676520"/>
          </a:xfrm>
          <a:custGeom>
            <a:avLst/>
            <a:gdLst>
              <a:gd name="textAreaLeft" fmla="*/ 51120 w 381240"/>
              <a:gd name="textAreaRight" fmla="*/ 330120 w 38124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7400" y="5410080"/>
            <a:ext cx="151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untu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s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E01805A" descr=""/>
          <p:cNvPicPr/>
          <p:nvPr/>
        </p:nvPicPr>
        <p:blipFill>
          <a:blip r:embed="rId4"/>
          <a:stretch/>
        </p:blipFill>
        <p:spPr>
          <a:xfrm>
            <a:off x="838080" y="2286000"/>
            <a:ext cx="1295640" cy="1217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82920" y="3581280"/>
            <a:ext cx="216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ap surv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ki key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unci suk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daya “knowledge-friendly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juan dan Bahasa yang jel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transfer dengan berbagai ja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kungan senior manaje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Ganesha Digital Librar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78280" y="201780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jadi knowledgebase dari IC ITB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gan mengelola tacit &amp; explicit knowledge civitas ITB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ggunakan TI yang tepat dan terjangkau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n membuka akses bagi masyarakat secara lu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http://digital.lib.itb.ac.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32670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4562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Ma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Explici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rse related mate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ividual or groups knowledge: Final project reports, Theses, Dissertations, Research Reports, and pap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ation: internal journals, bulletin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eding from seminar, workshop, studium general within IT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ltimedia, converted into digital format: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udio and video cassettes collection of ITB Central Library (events, history, language learning, et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peech cassettes collection of Salman Mos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Ma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Taci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rectory of expertise: individual, groups, and departments profi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iling list and archiv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External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eb portal to other science and technology related si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tional Journal for Intranet online access (full text)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3520" y="4419720"/>
            <a:ext cx="4876560" cy="18288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2438280"/>
            <a:ext cx="4876560" cy="1828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Captu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2438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8320" y="438300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i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61640" y="2867040"/>
            <a:ext cx="433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projects,Theses, Disser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cles, papers, Journals, bulle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ing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59840" y="4876920"/>
            <a:ext cx="413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ise (directories, cv, pro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274320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35812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4956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61720" y="762120"/>
            <a:ext cx="1857240" cy="155700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way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acces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,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98" idx="1"/>
          </p:cNvCxnSpPr>
          <p:nvPr/>
        </p:nvCxnSpPr>
        <p:spPr>
          <a:xfrm flipV="1" rot="10800000">
            <a:off x="5714280" y="1543680"/>
            <a:ext cx="838800" cy="2037240"/>
          </a:xfrm>
          <a:prstGeom prst="curvedConnector2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Access &amp; Dissemi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350532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bs00580_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1830240" cy="1541520"/>
          </a:xfrm>
          <a:prstGeom prst="rect">
            <a:avLst/>
          </a:prstGeom>
          <a:ln w="0">
            <a:noFill/>
          </a:ln>
        </p:spPr>
      </p:pic>
      <p:cxnSp>
        <p:nvCxnSpPr>
          <p:cNvPr id="203" name=""/>
          <p:cNvCxnSpPr>
            <a:stCxn id="201" idx="4"/>
          </p:cNvCxnSpPr>
          <p:nvPr/>
        </p:nvCxnSpPr>
        <p:spPr>
          <a:xfrm flipV="1">
            <a:off x="2590920" y="3047760"/>
            <a:ext cx="2667240" cy="182952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57240">
            <a:solidFill>
              <a:srgbClr val="ffcc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5867280" y="4343400"/>
            <a:ext cx="1828800" cy="53352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4495680"/>
            <a:ext cx="18288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4572000"/>
            <a:ext cx="1828800" cy="53352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4724280"/>
            <a:ext cx="144792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4724280"/>
            <a:ext cx="380880" cy="1526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201" idx="4"/>
            <a:endCxn id="206" idx="3"/>
          </p:cNvCxnSpPr>
          <p:nvPr/>
        </p:nvCxnSpPr>
        <p:spPr>
          <a:xfrm>
            <a:off x="2590920" y="4876560"/>
            <a:ext cx="3621600" cy="151560"/>
          </a:xfrm>
          <a:prstGeom prst="curvedConnector5">
            <a:avLst>
              <a:gd name="adj1" fmla="val 46286"/>
              <a:gd name="adj2" fmla="val 151428"/>
              <a:gd name="adj3" fmla="val 46286"/>
            </a:avLst>
          </a:prstGeom>
          <a:ln w="57240">
            <a:solidFill>
              <a:srgbClr val="cc6600"/>
            </a:solidFill>
            <a:prstDash val="sysDot"/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3048120" y="3276720"/>
            <a:ext cx="2286000" cy="1371600"/>
          </a:xfrm>
          <a:prstGeom prst="irregularSeal2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10800" y="52214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8040" y="19051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39360" y="27795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ul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93280" y="5410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Pres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733920" cy="3071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228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95288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mpus Network To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32288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447920" y="1523880"/>
          <a:ext cx="6781680" cy="50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78168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didikan di I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pendidikan konvensional (class room) belum tergantikan (tatap muka, moral, etik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bisa sangat membantu pendidik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lam beberapa hal, Internet lebih baik dari pendidikan konvensio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figurasi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at ini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tium 10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4 MB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 GB H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BS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ache + 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S-ISIS search eng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mail + Ezml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5568480" y="1828800"/>
            <a:ext cx="290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ntium III 500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n 256 MB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 GB HD (hingga TB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ustering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19051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Jaringan Digital Library Nasion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3313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yek pembuatan sistem jaringan digital library nasional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husus mengelola laporan penelitian, thesis, dan diserta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1150200" y="1752480"/>
            <a:ext cx="63255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Graduate Educatio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pgrading the Utilization of Re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6640" y="5599080"/>
            <a:ext cx="70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DLTD: Network of Digital Library for Theses and Disse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kus komunitas targ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hasiswa dan Peneli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bagai komunitas yang kreatif dan inovatif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sen knowled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pustaka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bagai knowledge manager, organis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digma library sbg information cen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yarak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alangan industri, bisnis, dll yang memanfaatkan hasil peneliti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luang link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si hasil penelitian terbuka dan mudah diak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kasi hasil penelitian semakin cepat, mudah, dan mura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alitas lulusan dan hasil penelitiannya mening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manfaatkan hasil penelitian mening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sternalisasi tacit knowled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age dengan dunia bisnis, industri, dan masyara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sasi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ksan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MRG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 ASIA/IDRC Singapor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Approv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ayasan Litbang Telekomunikasi dan Informatik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Approv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ian Internet Interconnection Initiatives (AI3)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N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sasi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 (pioneer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astern Indonesia Universities Development Project (EIUDP, the CIDA’s project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Cendrawasih (UNCEN), University of Samratulangi (UNSRAT), University of Pattimura (UNPATTI), University of Haluouleo (UNHALU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asca Sarjana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search Institute of ITB (LP IT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B Central Library (Digital Librar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DII LIPI Jakar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Brawijaya Malang Central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Muhammadiyah Malang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AIN (Institute of Islamic Religion, supported by McGil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AIN Sunan Ampel Surabaya, IAIN Sunan Kalijaga Yogyakart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228600" y="228600"/>
          <a:ext cx="8686800" cy="642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686800" cy="6427800"/>
                  </a:xfrm>
                  <a:prstGeom prst="rect">
                    <a:avLst/>
                  </a:prstGeom>
                  <a:ln w="12600">
                    <a:solidFill>
                      <a:srgbClr val="cc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pologi jaringa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gital libr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13200" y="5181480"/>
            <a:ext cx="206136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artner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24360" y="1676520"/>
            <a:ext cx="204300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entral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09720" y="2133720"/>
            <a:ext cx="381240" cy="60948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219320" y="4800240"/>
            <a:ext cx="457200" cy="30492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5791320"/>
            <a:ext cx="685800" cy="15228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3124080"/>
            <a:ext cx="2286000" cy="2133720"/>
          </a:xfrm>
          <a:prstGeom prst="ellipse">
            <a:avLst/>
          </a:prstGeom>
          <a:noFill/>
          <a:ln w="190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33920" y="1600200"/>
            <a:ext cx="2286000" cy="2133720"/>
          </a:xfrm>
          <a:prstGeom prst="ellipse">
            <a:avLst/>
          </a:prstGeom>
          <a:noFill/>
          <a:ln w="190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umulasi Knowled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16765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16765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Sci, Tech,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2096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b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74320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32767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29000" y="22096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Sci, Tech, Medical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274320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Phil, Religion, Agricultur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32767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38098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29000" y="38098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Human Right,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34340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stern Un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8769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4100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 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434340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Bio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48769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4100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And 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put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-Software server Digital Library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: metadata, naming, submission method, d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en pengelola di tiap part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base: metadata &amp; full text laporan penelitian, tesis dan disertasi dari seluruh part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aringan Digital Library Internasio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tukaran knowledgebase (laporan penelitian, tesis, dan diserta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 di luar neger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itas Groningen, Belanda (proposal in progre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itas Aalborg, Denmark (potensi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B sebagai hub/gateway untuk Indones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imasi tahun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didikan Era Bar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7325" t="28734" r="35011" b="12291"/>
          <a:stretch/>
        </p:blipFill>
        <p:spPr>
          <a:xfrm>
            <a:off x="1371600" y="2057400"/>
            <a:ext cx="65530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28600" y="474840"/>
          <a:ext cx="8763120" cy="59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74840"/>
                    <a:ext cx="876312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luang jaringan Internasio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DLTD, National Digital Library of Theses and Dissertation, USA.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ndltd.or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, Australian Digital Theses, UNSW Australia dan 7 universitas partnerny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a Self-Sustain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ding hanya diperlukan diaw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anjutnya pola self-sustainab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 akses ke database meta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ses ke full-teks PDF harus membayar meski murah (20%-40% untuk royalti auth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jualan CD-ROM database meta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ledgebase sebagai modal barter dengan partner internas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Plagiatis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gan disseminasi yang sangat luas (online internet atau offline CD-ROM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iap orang akan dengan mudah mengetahui hasil / laporan riset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g setiap plagiat akan mudah dilacak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g keinginan berbuat plagiat semakin kec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: plagiat bukan alasan untuk tidak mempublikasikan hasil riset secara on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rimakasi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2" name="bd05584_" descr=""/>
          <p:cNvPicPr/>
          <p:nvPr/>
        </p:nvPicPr>
        <p:blipFill>
          <a:blip r:embed="rId1"/>
          <a:stretch/>
        </p:blipFill>
        <p:spPr>
          <a:xfrm>
            <a:off x="4194000" y="1752480"/>
            <a:ext cx="342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proses belajar memanfaatkan internet (internet-enabled learning) – Cis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memanfaatkan kekuatan jaringan untuk belajar, kapan pun, dimana pun – Arista Knowledg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gabungan antara proses belajar dan internet – Bank of Amer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dinamis, real time, kolaboratif, individual, dan komprehensi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thd 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ga sudut panda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osof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p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Bis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tif Filosof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mengubah segalanya; pendidikan dan training sedang berubah, radikal – Nicholas Negropo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olusio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amany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 adalah go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bih bersifat sos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er yang bertanggung jaw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olusion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inscentered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772080" cy="270504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15" name="learnercentered" descr=""/>
          <p:cNvPicPr/>
          <p:nvPr/>
        </p:nvPicPr>
        <p:blipFill>
          <a:blip r:embed="rId2"/>
          <a:stretch/>
        </p:blipFill>
        <p:spPr>
          <a:xfrm>
            <a:off x="3505320" y="3581280"/>
            <a:ext cx="5079960" cy="271800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6" name=""/>
          <p:cNvSpPr/>
          <p:nvPr/>
        </p:nvSpPr>
        <p:spPr>
          <a:xfrm rot="1888200">
            <a:off x="3962160" y="26668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120" y="495288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ri berpus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da “instruct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68600" y="2743200"/>
            <a:ext cx="27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 berpusat p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amany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didikan berkelanjut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ata 40-tahun (vs 4 tahu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ajar setiap ha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rja menjadi belaj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ajar menjadi ker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 seorang pun pernah seles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00:33:28Z</dcterms:created>
  <dc:creator>Ismail Fahmi</dc:creator>
  <dc:description/>
  <dc:language>en-US</dc:language>
  <cp:lastModifiedBy>Ismail Fahmi</cp:lastModifiedBy>
  <dcterms:modified xsi:type="dcterms:W3CDTF">2000-08-07T02:26:35Z</dcterms:modified>
  <cp:revision>12</cp:revision>
  <dc:subject/>
  <dc:title>Optimalisasi Internet dalam Meningkatkan Mutu Pendidikan</dc:title>
</cp:coreProperties>
</file>