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5786-62A0-4225-811E-4878B0B6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E09-5F16-4346-A7AA-38F25B4A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CA9-62A6-44E0-90F2-CEBC3CB9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B48-D0AD-46DA-B972-162767ED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567D-CD45-45B8-80DC-812A8F7B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6EF0-5FD1-4E97-ADB8-08283E66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A5B6-2A5F-4AD9-8039-6A55424E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7095-C2FE-4694-B93C-7CE7D607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A298-2AD6-456A-9C5F-506D600C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17D0-DE1D-4715-AA23-014E0B6C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86E1-7E5C-441E-AD5C-3CE3265F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425-68A8-48E1-B39A-3495AFF8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2570-F38E-4380-A3F4-6EA12E96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2FD1-A077-4A1E-BC17-D48A275C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B4E2-0866-4346-AA5A-99500FAC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E2B2-A78B-4145-B238-B7D0B039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BF1C-A2D5-4A63-B16E-87FABA47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D09-C20F-43F4-B8E1-5156DD7B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C3E-9D62-4255-9F9A-657DBD66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F64-6C25-4B94-B385-A6814C84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4242-7108-49E4-B2FF-7786957A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F96-9427-4B2A-9703-1BBDA528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3C2-582E-431D-BABE-06EA05CC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5070-3B81-4949-BF63-43785078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364A-C94F-4EFA-A28B-20BC607523B4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7545-2010-4BFA-A34E-18447B247E35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r.org/diglib/about/strategic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1 Bulan IndonesiaDLN dan Tantangan Di Depan It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smail Fahmi &lt;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jen IndonesiaDLN (s/d 2002)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tua KMRG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1 April 2002, Savoy Homan, Bandung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ktif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a 4 aspek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ocie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mengelola forum IndonesiaDLN (lewat milis dan pertemuan tahun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olic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proaktif memberi masukan kepada pimpinan institusi-institusi untuk berbagi pengetahuan (belum terlalu diaktifk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rateg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standard metadata dan protokol, strategic business unit model, servic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echn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tools, arsitektur, network, hub server, instalasi, training, operas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rt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simpul/node dari jarin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penggu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lian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institusi kerjas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kretari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execu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tandard &amp; Too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metadata, protokol,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ub Serv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the storages of knowle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il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kretariat; numpang bareng KMRG di Perpustakaan Pusat ITB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Hub; numpang bareng server KMR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neksi Internet, 2 mbps numpang bareng AI3 IT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figurasi sebuah LAN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1478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gdl-lan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9436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sitektur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2971800"/>
            <a:ext cx="182880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4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80880" y="4267080"/>
            <a:ext cx="1523880" cy="1143000"/>
            <a:chOff x="380880" y="4267080"/>
            <a:chExt cx="1523880" cy="1143000"/>
          </a:xfrm>
        </p:grpSpPr>
        <p:sp>
          <p:nvSpPr>
            <p:cNvPr id="145" name=""/>
            <p:cNvSpPr/>
            <p:nvPr/>
          </p:nvSpPr>
          <p:spPr>
            <a:xfrm>
              <a:off x="380880" y="4267080"/>
              <a:ext cx="152388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uman Rights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5029200"/>
              <a:ext cx="1523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4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5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5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175248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362320"/>
            <a:ext cx="762120" cy="12189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057400" y="1828800"/>
            <a:ext cx="1904760" cy="914040"/>
            <a:chOff x="2057400" y="1828800"/>
            <a:chExt cx="1904760" cy="914040"/>
          </a:xfrm>
        </p:grpSpPr>
        <p:sp>
          <p:nvSpPr>
            <p:cNvPr id="164" name=""/>
            <p:cNvSpPr/>
            <p:nvPr/>
          </p:nvSpPr>
          <p:spPr>
            <a:xfrm>
              <a:off x="2057400" y="1828800"/>
              <a:ext cx="1904760" cy="609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tance Learning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7400" y="2438280"/>
              <a:ext cx="190476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590920" y="2743200"/>
            <a:ext cx="990360" cy="609480"/>
          </a:xfrm>
          <a:custGeom>
            <a:avLst/>
            <a:gdLst/>
            <a:ahLst/>
            <a:rect l="l" t="t" r="r" b="b"/>
            <a:pathLst>
              <a:path w="624" h="384">
                <a:moveTo>
                  <a:pt x="0" y="0"/>
                </a:moveTo>
                <a:lnTo>
                  <a:pt x="0" y="384"/>
                </a:lnTo>
                <a:lnTo>
                  <a:pt x="624" y="384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5638680"/>
            <a:ext cx="137160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886200"/>
            <a:ext cx="761760" cy="19810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arat Menjadi Partner/No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miliki sumber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n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rsedia berbagi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gi kemajuan bangsa Indonesia.”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ngkah Menjadi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sikan: knowledge source, type, user, dan servi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kan staf dan mekanisme pengelolaa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rver digital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strasikan server ke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ronisasi data (share and harve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service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8960" y="2590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ni 2001 – April 2002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Hub Ser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mlah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6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n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de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ABB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A = Kode wilayah (menurut Indomar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sal: JB = Jawa Bar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B = Tipe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T = Perguruan Tingg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K = Perpustakaan Khus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N = Warn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 = Pers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ME = Singkatan nama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oh: JBPTITBPP (Perpustakaan Pusat IT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ktober 2000: Forum dibentu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ni 2001: Jaringan DL diluncurk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ril 2002: Pertemuan Tahunan Keti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got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divid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tertarik pada PENGEMBANGAN DL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stitu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ingin turut BERBAGI PENGETAHUAN bagi bangsa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/Nodes (Institusi)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 6 April 2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disi Koneksi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l-up / tempo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pe Cont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04920" y="2133720"/>
          <a:ext cx="845820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45820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488200" y="571500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= 4023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t Fi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447920"/>
          <a:ext cx="861048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6104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Besar Kontributor Metadata &amp; F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371600"/>
          <a:ext cx="70102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010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e Vs Harv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mlah Partn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fi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vest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akti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/ Us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1600200"/>
          <a:ext cx="609624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609624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151760" y="1563840"/>
            <a:ext cx="124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d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il b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bi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gara Asal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1600" y="1981080"/>
          <a:ext cx="406728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4067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159960" y="20210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 juga 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ng dari 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file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523880" y="1905120"/>
          <a:ext cx="40179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40179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6160320" y="1639800"/>
            <a:ext cx="216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,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hasiswa S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si kedu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i Pri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Akses GDL 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usage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010640" cy="35053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4200" y="590724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bagian besar berupa sinkronisasi data dari Part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523880" y="3124080"/>
          <a:ext cx="6553440" cy="27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55344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3716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38680" y="2743200"/>
            <a:ext cx="2209680" cy="1447560"/>
            <a:chOff x="5638680" y="2743200"/>
            <a:chExt cx="2209680" cy="1447560"/>
          </a:xfrm>
        </p:grpSpPr>
        <p:sp>
          <p:nvSpPr>
            <p:cNvPr id="110" name=""/>
            <p:cNvSpPr/>
            <p:nvPr/>
          </p:nvSpPr>
          <p:spPr>
            <a:xfrm>
              <a:off x="5638680" y="3264120"/>
              <a:ext cx="1493280" cy="92664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13640" y="2743200"/>
              <a:ext cx="1134720" cy="127404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77360" y="3322440"/>
              <a:ext cx="298440" cy="5760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143000" y="2590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ss to our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ecenderungan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dan melakukan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tapi tidak aktif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aktif harvest/download metadat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terdaftar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ali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cenderungan tsb mungkin disebabk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 adalah sesuatu yang baru dan ingin dicob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kungan pimpinan institusi untuk mengelola DL kurang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ndard operasi sinkronisasi data belum ad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sialisasi aktif dan service bagi partner belum didefinisik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definisi pasar, kebutuhan user, dan standard service bersa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Di De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8cs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5530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tanyaan untuk Meeting Ketiga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are our users and what are their nee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ervices we will provid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bout standard, protocol, and tool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will lead the IndonesiaDLN nex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survive from the financial issu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8960" y="2819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Terbes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asal dari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dalam diri kita sendir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ur knowledg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want to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t,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it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72200" y="4191120"/>
            <a:ext cx="1494000" cy="1523880"/>
            <a:chOff x="6172200" y="4191120"/>
            <a:chExt cx="1494000" cy="1523880"/>
          </a:xfrm>
        </p:grpSpPr>
        <p:sp>
          <p:nvSpPr>
            <p:cNvPr id="117" name=""/>
            <p:cNvSpPr/>
            <p:nvPr/>
          </p:nvSpPr>
          <p:spPr>
            <a:xfrm>
              <a:off x="6172200" y="4788000"/>
              <a:ext cx="1494000" cy="92700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4191120"/>
              <a:ext cx="1135080" cy="127476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it is locke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rena KI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idak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erlu 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orang lain ingin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cara memberi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ta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n seterusnya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to Unlock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lah tugas KITA di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TA haru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TAHU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SADAR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u BERBAGI, la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it ! Tunggu apa lagi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 yang perlu dike-TAHU-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kayaan intelektual kit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a membutuhkan ap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mmun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menyampaikanny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ulture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operation, commerce, capital, capacity, dan connectiv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hat: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http://idln.lib.itb.ac.id/Open.html?target= overview/delapan_kesenjangan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ngapa Digital Librar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upakan ‘storage of knowledge’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ah dan murah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, anywhere, anytim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 (Perpustakaan) sudah lama dikenal masyarak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 Digital Libr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Digital librarie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ganization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provide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sourc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ncluding the specialize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af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lec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ruct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ffe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llectua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erpre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tribut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serv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integrity of,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s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sistenc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ver time of collections of digital works so that they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adi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onomical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vailable f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 a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ed communit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t of communiti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  <a:hlinkClick r:id="rId1"/>
              </a:rPr>
              <a:t>http://www.clir.org/diglib/about/strategic.ht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00:50:10Z</dcterms:created>
  <dc:creator>Ismail Fahmi</dc:creator>
  <dc:description/>
  <dc:language>en-US</dc:language>
  <cp:lastModifiedBy>Ismail Fahmi</cp:lastModifiedBy>
  <dcterms:modified xsi:type="dcterms:W3CDTF">2002-04-10T05:01:40Z</dcterms:modified>
  <cp:revision>14</cp:revision>
  <dc:subject/>
  <dc:title>11 Bulan IndonesiaDLN dan Tantangan Masa Depan</dc:title>
</cp:coreProperties>
</file>