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58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99840" y="3978360"/>
            <a:ext cx="58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9984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8460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400" y="182880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8600" y="182880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99840" y="397836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9400" y="397836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538600" y="397836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99840" y="1828800"/>
            <a:ext cx="5824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5824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9984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99840" y="1828800"/>
            <a:ext cx="5824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8460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99840" y="3978360"/>
            <a:ext cx="58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58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99840" y="3978360"/>
            <a:ext cx="58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8460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69400" y="182880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538600" y="182880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99840" y="397836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69400" y="397836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538600" y="3978360"/>
            <a:ext cx="187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5824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9984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84600" y="397836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600" y="1828800"/>
            <a:ext cx="2842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99840" y="3978360"/>
            <a:ext cx="58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99840" y="1828800"/>
            <a:ext cx="5824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0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  <a:p>
            <a:pPr lvl="2" marL="966240" indent="-203400">
              <a:spcBef>
                <a:spcPts val="7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  <a:p>
            <a:pPr lvl="3" marL="1271520" indent="-203400">
              <a:spcBef>
                <a:spcPts val="799"/>
              </a:spcBef>
              <a:buClr>
                <a:srgbClr val="0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  <a:p>
            <a:pPr lvl="4" marL="1576440" indent="-203400">
              <a:spcBef>
                <a:spcPts val="7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  <a:p>
            <a:pPr lvl="5" marL="1576440" indent="-203400">
              <a:spcBef>
                <a:spcPts val="7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  <a:p>
            <a:pPr lvl="6" marL="1576440" indent="-203400">
              <a:spcBef>
                <a:spcPts val="7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  <a:p>
            <a:pPr lvl="2" marL="85716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8000"/>
              </a:solidFill>
              <a:latin typeface="Tahoma"/>
            </a:endParaRPr>
          </a:p>
          <a:p>
            <a:pPr lvl="3" marL="1200240" algn="ctr">
              <a:spcBef>
                <a:spcPts val="499"/>
              </a:spcBef>
              <a:buClr>
                <a:srgbClr val="008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4" marL="154296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5" marL="154296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6" marL="1542960"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466120" y="0"/>
            <a:ext cx="666720" cy="5931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0" y="2666880"/>
            <a:ext cx="838440" cy="417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268360" y="3068280"/>
            <a:ext cx="64072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Katherine Don, Michael Dewsnip, Chi-Yu Huang</a:t>
            </a:r>
            <a:endParaRPr b="0" lang="en-US" sz="2000" spc="-1" strike="noStrike">
              <a:solidFill>
                <a:srgbClr val="0080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http://nzdl.org</a:t>
            </a:r>
            <a:endParaRPr b="0" lang="en-US" sz="2000" spc="-1" strike="noStrike">
              <a:solidFill>
                <a:srgbClr val="0080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http://greenstone.org</a:t>
            </a:r>
            <a:endParaRPr b="0" lang="en-US" sz="2000" spc="-1" strike="noStrike">
              <a:solidFill>
                <a:srgbClr val="0080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7632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 Black"/>
              </a:rPr>
              <a:t>Workshop on the Greenstone Digital Library Software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1676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63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Tahoma"/>
              </a:rPr>
              <a:t>Open source system for </a:t>
            </a:r>
            <a:br>
              <a:rPr sz="2400"/>
            </a:br>
            <a:r>
              <a:rPr b="1" i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Tahoma"/>
              </a:rPr>
              <a:t>creating  and  delivering</a:t>
            </a:r>
            <a:br>
              <a:rPr sz="2400"/>
            </a:br>
            <a:r>
              <a:rPr b="1" i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8000"/>
                </a:solidFill>
                <a:latin typeface="Tahoma"/>
              </a:rPr>
              <a:t>digital library collection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4164120" cy="6915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90920" y="5029200"/>
            <a:ext cx="5257800" cy="1676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ourse material prepared b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Greenstone Digital Library Project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University of Waikato, New Zealand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and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National Centre for Science Information,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Indian Institute of Science, Bangalor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Workshop materials</a:t>
            </a: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7620120" cy="583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Workshop notes (also on CD-ROM)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includes schedule, lecture overheads, lab instructions</a:t>
            </a:r>
            <a:endParaRPr b="0" lang="en-US" sz="1800" spc="-1" strike="noStrike">
              <a:solidFill>
                <a:srgbClr val="008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Workshop CD-ROM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Greenstone software, </a:t>
            </a:r>
            <a:endParaRPr b="0" lang="en-US" sz="1600" spc="-1" strike="noStrike">
              <a:solidFill>
                <a:srgbClr val="008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Electronic copy of all workshop materials</a:t>
            </a:r>
            <a:endParaRPr b="0" lang="en-US" sz="1600" spc="-1" strike="noStrike">
              <a:solidFill>
                <a:srgbClr val="008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Greenstone manuals:</a:t>
            </a:r>
            <a:endParaRPr b="0" lang="en-US" sz="1600" spc="-1" strike="noStrike">
              <a:solidFill>
                <a:srgbClr val="008000"/>
              </a:solidFill>
              <a:latin typeface="Tahoma"/>
            </a:endParaRPr>
          </a:p>
          <a:p>
            <a:pPr lvl="2" marL="1144440" indent="-288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From Paper To Collection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 (paper.pdf, 30pp)</a:t>
            </a:r>
            <a:endParaRPr b="0" lang="en-US" sz="1400" spc="-1" strike="noStrike">
              <a:solidFill>
                <a:srgbClr val="008000"/>
              </a:solidFill>
              <a:latin typeface="Tahoma"/>
            </a:endParaRPr>
          </a:p>
          <a:p>
            <a:pPr lvl="2" marL="1144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Scanners and scanning, OCR, 3 examples – from 1,000 to 100,000 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pages, 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Creating an electronic collection</a:t>
            </a:r>
            <a:endParaRPr b="0" lang="en-US" sz="1400" spc="-1" strike="noStrike">
              <a:solidFill>
                <a:srgbClr val="008000"/>
              </a:solidFill>
              <a:latin typeface="Tahoma"/>
            </a:endParaRPr>
          </a:p>
          <a:p>
            <a:pPr lvl="2" marL="1144440" indent="-288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Installer’s Guide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 (install.pdf, 36pp)</a:t>
            </a:r>
            <a:endParaRPr b="0" lang="en-US" sz="1400" spc="-1" strike="noStrike">
              <a:solidFill>
                <a:srgbClr val="008000"/>
              </a:solidFill>
              <a:latin typeface="Tahoma"/>
            </a:endParaRPr>
          </a:p>
          <a:p>
            <a:pPr lvl="2" marL="1144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Versions of Greenstone, installation procedure, Greenstone collections, 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setting up the web server, configuring your site, personalizing your 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installation</a:t>
            </a:r>
            <a:endParaRPr b="0" lang="en-US" sz="1400" spc="-1" strike="noStrike">
              <a:solidFill>
                <a:srgbClr val="008000"/>
              </a:solidFill>
              <a:latin typeface="Tahoma"/>
            </a:endParaRPr>
          </a:p>
          <a:p>
            <a:pPr lvl="2" marL="1144440" indent="-288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User’s Guide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 (user.pdf, 90pp)</a:t>
            </a:r>
            <a:endParaRPr b="0" lang="en-US" sz="1400" spc="-1" strike="noStrike">
              <a:solidFill>
                <a:srgbClr val="008000"/>
              </a:solidFill>
              <a:latin typeface="Tahoma"/>
            </a:endParaRPr>
          </a:p>
          <a:p>
            <a:pPr lvl="2" marL="1144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Overview of Greenstone, using Greenstone collections, the collector, 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administration, software features, glossary of terms</a:t>
            </a:r>
            <a:endParaRPr b="0" lang="en-US" sz="1400" spc="-1" strike="noStrike">
              <a:solidFill>
                <a:srgbClr val="008000"/>
              </a:solidFill>
              <a:latin typeface="Tahoma"/>
            </a:endParaRPr>
          </a:p>
          <a:p>
            <a:pPr lvl="2" marL="1144440" indent="-288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00"/>
                </a:solidFill>
                <a:latin typeface="Tahoma"/>
              </a:rPr>
              <a:t>Developer’s Guide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 (develop.pdf, 113pp)</a:t>
            </a:r>
            <a:endParaRPr b="0" lang="en-US" sz="1400" spc="-1" strike="noStrike">
              <a:solidFill>
                <a:srgbClr val="008000"/>
              </a:solidFill>
              <a:latin typeface="Tahoma"/>
            </a:endParaRPr>
          </a:p>
          <a:p>
            <a:pPr lvl="2" marL="1144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Understanding the collection building process, getting the most out of 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your collections, the Greenstone runtime systems, configuring your 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ahoma"/>
              </a:rPr>
              <a:t>Greenstone site</a:t>
            </a:r>
            <a:endParaRPr b="0" lang="en-US" sz="1400" spc="-1" strike="noStrike">
              <a:solidFill>
                <a:srgbClr val="008000"/>
              </a:solidFill>
              <a:latin typeface="Tahoma"/>
            </a:endParaRPr>
          </a:p>
          <a:p>
            <a:pPr lvl="2" marL="114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Example Greenstone CD-ROM (UNAIDS Library of Current Documents) 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Evaluation form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Workshop sessions</a:t>
            </a:r>
            <a:endParaRPr b="0" lang="en-US" sz="4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0. Introduction: What is a digital library; Greenstone: Overview of features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  <a:p>
            <a:pPr lvl="1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1. Greenstone installation; browsing example collections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  <a:p>
            <a:pPr lvl="1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2. Librarian interface: Building collections and adding metadata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  <a:p>
            <a:pPr lvl="1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3. Librarian interface: Using metadata, simple collection configuration 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  <a:p>
            <a:pPr lvl="1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4. Librarian interface: Advanced features 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  <a:p>
            <a:pPr lvl="1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5. Advanced formatting; creating a CD-ROM 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  <a:p>
            <a:pPr lvl="1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6. Advanced document types</a:t>
            </a:r>
            <a:endParaRPr b="0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04:48:28Z</dcterms:created>
  <dc:creator>Ian H. Witten</dc:creator>
  <dc:description/>
  <dc:language>en-US</dc:language>
  <cp:lastModifiedBy>kjdon</cp:lastModifiedBy>
  <cp:lastPrinted>2003-11-14T03:43:44Z</cp:lastPrinted>
  <dcterms:modified xsi:type="dcterms:W3CDTF">2005-09-07T04:08:21Z</dcterms:modified>
  <cp:revision>365</cp:revision>
  <dc:subject/>
  <dc:title>Browsing around a digital library seminar</dc:title>
</cp:coreProperties>
</file>