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3FDD-9B53-4360-88C2-8E2230117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4290-71AE-4576-B43B-8C75FDE15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46F8-5C9D-42F0-BA2A-6C02F7FBB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6F81-69E0-4A6C-8616-C43AA4403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8CE3A-0AFA-45B2-AF9C-6B369332D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36196-33DB-416A-8809-838F485F6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AE938-9342-4EE6-9AF2-FED48E1F4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F4CBF-A08E-45BD-BECA-92F890E02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D38C6-8F88-4C16-9AF5-D1448C2B7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1F0AE-5969-4B94-9EE7-26CCC20E3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DBE3F-EB6C-4DA8-86AD-0CD32AC8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9427-0CDB-4E98-B8DF-47DDA36B2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BE345-DD73-40E6-9B12-A7645A63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87CBA-11BE-4862-BEC6-A0207CDD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7DD49-30CB-48C1-949A-C2EF7612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147FC-3A06-4D95-BE21-313755034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C32FA-A2CB-4740-84BD-AD8BA20FF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8DA8-829F-4C8B-BB0E-8BB13C18C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4577-BA44-41B1-A444-D7CC46FF8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9D95-C003-46C4-B8E4-F91FE5CC5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BACB-9276-471D-885E-85BD5DE24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1073-1651-4B64-98AE-F181E183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6DFD-1DB3-426E-8650-D2CF4E53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477B-607A-4392-8583-B2B3018C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BAF0-8E4A-43CC-BB87-C806B98983B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2695D-1B9B-4836-AF7F-D7A647A4CC3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57200" y="2590920"/>
            <a:ext cx="84582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TIAP STASIUN RADIO HARUS MEMILIKI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ALLSIG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4114800"/>
            <a:ext cx="86868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TIAP PANCARAN RADIO HARUS SELALU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NYEBUTKAN CALLSIGN DENGAN LENGKAP DALAM INTERVAL PEND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57780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ALLSIGN = NAMA PANGGIL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50"/>
                            </p:stCondLst>
                            <p:childTnLst>
                              <p:par>
                                <p:cTn id="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228600" y="2514600"/>
            <a:ext cx="8686800" cy="99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8880" y="2133720"/>
            <a:ext cx="1676520" cy="4495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486400" y="2133720"/>
            <a:ext cx="1676520" cy="4495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495680" y="1752480"/>
            <a:ext cx="947880" cy="487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343240" y="1752480"/>
            <a:ext cx="2090520" cy="487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28600" y="1752480"/>
            <a:ext cx="2057400" cy="487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CALLSIGN AMATIR RADIO</a:t>
            </a:r>
            <a:br>
              <a:rPr sz="4000"/>
            </a:b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INDONES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920" y="2590920"/>
            <a:ext cx="8686800" cy="9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NGKULU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          4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MA - R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M - Z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MAA - PZZ          ZMA - ZR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A - YZZ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52280" y="1752480"/>
            <a:ext cx="883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PROPINSI               PREFIX                WRA                     SUFFIX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IAR             IAR KHUS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486400" y="1752480"/>
            <a:ext cx="342900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4920" y="358128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MPUNG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          4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SA - Y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S - 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SAA - YZZ          ZSA - Z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" y="3505320"/>
            <a:ext cx="868680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04920" y="426708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MBA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          5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AA - M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A - Z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AAA - MZZ          ZAA - ZM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" y="4191120"/>
            <a:ext cx="868680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28600" y="4952880"/>
            <a:ext cx="8686800" cy="9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IAU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NA - Z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N - 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NAA - PZZ          ZNA - Z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A - YZZ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28600" y="4876920"/>
            <a:ext cx="8686800" cy="99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28600" y="598644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.A.D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6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AA - G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A - Z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AAA - GZZ          ZAA - ZG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228600" y="2514600"/>
            <a:ext cx="8686800" cy="99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238880" y="2133720"/>
            <a:ext cx="1676520" cy="4495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486400" y="2133720"/>
            <a:ext cx="1676520" cy="4495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495680" y="1752480"/>
            <a:ext cx="947880" cy="487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343240" y="1752480"/>
            <a:ext cx="2090520" cy="487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" y="1752480"/>
            <a:ext cx="2057400" cy="487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CALLSIGN AMATIR RADIO</a:t>
            </a:r>
            <a:br>
              <a:rPr sz="4000"/>
            </a:b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INDONES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04920" y="2590920"/>
            <a:ext cx="8686800" cy="9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MU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          6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HA - R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H - Z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HAA - PZZ          ZHA - ZR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A - YZZ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52280" y="1752480"/>
            <a:ext cx="883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PROPINSI               PREFIX                WRA                     SUFFIX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IAR             IAR KHUS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486400" y="1752480"/>
            <a:ext cx="342900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04920" y="358128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LBA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YH, YD, YC, YB           7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AA - G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A - Z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AAA - GZZ          ZAA - ZG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" y="3505320"/>
            <a:ext cx="868680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426708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LSE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YH, YD, YC, YB           7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HA - N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H - Z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HAA - NZZ          ZHA - ZN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28600" y="4191120"/>
            <a:ext cx="868680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28600" y="4952880"/>
            <a:ext cx="8686800" cy="9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LTENG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OA - T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O - Z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OAA - PZZ          ZOA - ZT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A - TZZ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" y="4876920"/>
            <a:ext cx="8686800" cy="99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28600" y="598644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LTIM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7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UA - Y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U - 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UAA - YZZ          ZUA - Z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228600" y="2514600"/>
            <a:ext cx="868680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8880" y="2133720"/>
            <a:ext cx="1676520" cy="388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486400" y="2133720"/>
            <a:ext cx="1676520" cy="388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495680" y="1752480"/>
            <a:ext cx="947880" cy="4267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343240" y="1752480"/>
            <a:ext cx="2090520" cy="4267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28600" y="1752480"/>
            <a:ext cx="2057400" cy="4267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CALLSIGN AMATIR RADIO</a:t>
            </a:r>
            <a:br>
              <a:rPr sz="4000"/>
            </a:b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INDONES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04920" y="259092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LSE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AA - H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A - Z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AAA - HZZ          ZHA - ZH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52280" y="1752480"/>
            <a:ext cx="883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PROPINSI               PREFIX                WRA                     SUFFIX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IAR             IAR KHUS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486400" y="1752480"/>
            <a:ext cx="342900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4920" y="327672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LTR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          8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IA - L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I - Z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IAA - LZZ          ZIA - ZL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28600" y="3200400"/>
            <a:ext cx="868680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04920" y="464832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A - S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LU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YH, YD, YC, Y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8            RAA - SZZ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" y="4572000"/>
            <a:ext cx="8686800" cy="1447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28600" y="533412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D, YC, Y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TA – U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ZQ - Z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A – UZ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QA - ZU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286000" y="525780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486400" y="525780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04920" y="395748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LTENG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          8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MA - PZ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M - Z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MAA - PZZ          ZMA - ZP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7238880" y="2133720"/>
            <a:ext cx="167652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486400" y="2133720"/>
            <a:ext cx="167652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495680" y="1752480"/>
            <a:ext cx="947880" cy="4724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343240" y="1752480"/>
            <a:ext cx="2090520" cy="4724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28600" y="1752480"/>
            <a:ext cx="2057400" cy="4724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CALLSIGN AMATIR RADIO</a:t>
            </a:r>
            <a:br>
              <a:rPr sz="4000"/>
            </a:b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INDONES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52280" y="1752480"/>
            <a:ext cx="883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PROPINSI               PREFIX                WRA                     SUFFIX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IAR             IAR KHUS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486400" y="1752480"/>
            <a:ext cx="342900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04920" y="388152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H, YD, YC, Y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VA - W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LUKU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8            VAA - WZZ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28600" y="2514600"/>
            <a:ext cx="8686800" cy="1295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28600" y="456732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D, YC, Y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XA - Y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V - 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AA - YZZ          ZVA - Z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86000" y="320040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486400" y="320040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04920" y="256212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A – S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Q - Z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ORONTAL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G, YF,YE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8            RAA - SZZ          ZQA - ZU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04920" y="321480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H, 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TA - U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A -U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286000" y="449568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486400" y="449568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28600" y="5181480"/>
            <a:ext cx="8686800" cy="129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04920" y="525312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VA - W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ZV - Z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LUKU UTARA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8            VAA - WZZ   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ZVA - ZZ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" y="5867280"/>
            <a:ext cx="8686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H, 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XA – Y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XAA - Y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286000" y="586728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486400" y="586728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228600" y="2514600"/>
            <a:ext cx="868680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238880" y="2133720"/>
            <a:ext cx="1676520" cy="32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486400" y="2133720"/>
            <a:ext cx="1676520" cy="32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495680" y="1752480"/>
            <a:ext cx="947880" cy="3657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343240" y="1752480"/>
            <a:ext cx="2090520" cy="3657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28600" y="1752480"/>
            <a:ext cx="2057400" cy="3657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CALLSIGN AMATIR RADIO</a:t>
            </a:r>
            <a:br>
              <a:rPr sz="4000"/>
            </a:b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INDONES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04920" y="259092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L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          9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AA - F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A - Z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AAA - FZZ          ZAA - ZF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52280" y="1752480"/>
            <a:ext cx="883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PROPINSI               PREFIX                WRA                     SUFFIX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IAR             IAR KHUS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486400" y="1752480"/>
            <a:ext cx="342900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04920" y="327672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.T.B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          9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GA - K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G - Z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GAA - KZZ         ZGA - ZK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28600" y="3200400"/>
            <a:ext cx="868680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04920" y="464832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YH, YD, YC, YB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9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QA - Y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ZQ - Z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PU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RAA - YZZ   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ZQA - ZZ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28600" y="4572000"/>
            <a:ext cx="868680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04920" y="395748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.T.T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          9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LA - PZ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L - Z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LAA - PZZ          ZLA - ZP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CALLSIGN AMATIR RADIO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RSUSUN DALAM BENTUK KOMBINASI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URUF DAN ANG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LAM SATU KESATUAN YANG TERDIRI ATAS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EFIX &amp; SUFFI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4038480"/>
            <a:ext cx="8610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FIX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NJELASKAN LOKASI (NEGARA &amp; W.R.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FFIX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LENGKAPAN PREFIX UNTUK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NJELASKAN PEMILIK STASI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590920" y="3505320"/>
            <a:ext cx="5943600" cy="1218960"/>
          </a:xfrm>
          <a:prstGeom prst="rect">
            <a:avLst/>
          </a:prstGeom>
          <a:solidFill>
            <a:srgbClr val="3333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52480" y="4800600"/>
            <a:ext cx="6782040" cy="1600200"/>
          </a:xfrm>
          <a:prstGeom prst="rect">
            <a:avLst/>
          </a:prstGeom>
          <a:solidFill>
            <a:srgbClr val="3333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0" y="1447560"/>
            <a:ext cx="8229600" cy="19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24012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ff"/>
                </a:solidFill>
                <a:latin typeface="Tahoma"/>
              </a:rPr>
              <a:t>YB</a:t>
            </a:r>
            <a:r>
              <a:rPr b="1" lang="en-US" sz="8000" spc="-1" strike="noStrike">
                <a:solidFill>
                  <a:srgbClr val="3333ff"/>
                </a:solidFill>
                <a:latin typeface="Tahoma"/>
                <a:ea typeface="Arial"/>
              </a:rPr>
              <a:t>ØCAK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24012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ALLSIGN AMATIR RADIO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971800" y="585144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NJELASKAN NEGARA =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DONES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71800" y="547056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NJELASKAN W.R.A      =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JAKAR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971800" y="417528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NJELASKAN PEMILIK STASIUN RAD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6019920"/>
            <a:ext cx="20098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05120" y="3352680"/>
            <a:ext cx="0" cy="2286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905120" y="5633640"/>
            <a:ext cx="914400" cy="4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16200000">
            <a:off x="419040" y="2629080"/>
            <a:ext cx="457200" cy="1295280"/>
          </a:xfrm>
          <a:custGeom>
            <a:avLst/>
            <a:gdLst>
              <a:gd name="textAreaLeft" fmla="*/ 292320 w 457200"/>
              <a:gd name="textAreaRight" fmla="*/ 457560 w 4572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16200000">
            <a:off x="3124080" y="2438280"/>
            <a:ext cx="457200" cy="1981080"/>
          </a:xfrm>
          <a:custGeom>
            <a:avLst/>
            <a:gdLst>
              <a:gd name="textAreaLeft" fmla="*/ 292320 w 457200"/>
              <a:gd name="textAreaRight" fmla="*/ 457560 w 45720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3505320"/>
            <a:ext cx="0" cy="2514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36576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77120" y="48006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EF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477120" y="3581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UFF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495680" y="2133720"/>
            <a:ext cx="464832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r. Iskandar A.Q. SALE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omp. PLN Duren Tiga, Jl, Jatiluhur no.34. JAKARTA 12760 - INDONES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35053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5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5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590920" y="3505320"/>
            <a:ext cx="5943600" cy="1218960"/>
          </a:xfrm>
          <a:prstGeom prst="rect">
            <a:avLst/>
          </a:prstGeom>
          <a:solidFill>
            <a:srgbClr val="3333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52480" y="4800600"/>
            <a:ext cx="6782040" cy="1600200"/>
          </a:xfrm>
          <a:prstGeom prst="rect">
            <a:avLst/>
          </a:prstGeom>
          <a:solidFill>
            <a:srgbClr val="3333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ALLSIGN AMATIR RADIO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71800" y="585144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NJELASKAN NEGARA = INDONES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71800" y="547056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NJELASKAN W.R.A      = JAWA BAR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971800" y="417528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NJELASKAN PEMILIK STASIUN RAD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247760" y="6019920"/>
            <a:ext cx="14479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0" y="3352680"/>
            <a:ext cx="0" cy="2286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2286000" y="5633640"/>
            <a:ext cx="533520" cy="4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16200000">
            <a:off x="1062000" y="2705040"/>
            <a:ext cx="457200" cy="1295280"/>
          </a:xfrm>
          <a:custGeom>
            <a:avLst/>
            <a:gdLst>
              <a:gd name="textAreaLeft" fmla="*/ 292320 w 457200"/>
              <a:gd name="textAreaRight" fmla="*/ 457560 w 4572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16200000">
            <a:off x="3047760" y="2819160"/>
            <a:ext cx="457200" cy="1219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266480" y="3733920"/>
            <a:ext cx="28440" cy="2286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76720" y="36576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477120" y="48006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EF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477120" y="3581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UFF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181480" y="2133720"/>
            <a:ext cx="327672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TONI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7 RUA AGUSTA        SAO PAULO - BRAZ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1965240"/>
            <a:ext cx="160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ff"/>
                </a:solidFill>
                <a:latin typeface="Arial"/>
              </a:rPr>
              <a:t>YB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828800" y="1981080"/>
            <a:ext cx="83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38280" y="1981080"/>
            <a:ext cx="1676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ff"/>
                </a:solidFill>
                <a:latin typeface="Arial"/>
              </a:rPr>
              <a:t>PR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400800" y="5851440"/>
            <a:ext cx="1981080" cy="3988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RAZ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400800" y="5491080"/>
            <a:ext cx="1981080" cy="3988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AO PAU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10405E-006 L 0.22916 0.00671 E">
                                      <p:cBhvr>
                                        <p:cTn id="112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6.93642E-007 L -0.21666 6.93642E-007 E">
                                      <p:cBhvr>
                                        <p:cTn id="114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0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600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8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32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CALLSIGN AMATIR RADIO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28600" y="2598840"/>
            <a:ext cx="89154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a500"/>
                </a:solidFill>
                <a:latin typeface="Tahoma"/>
              </a:rPr>
              <a:t>TINGKATAN / CLAS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YH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emula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= No Code Cl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YD &amp; YG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aga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= Novice    Cl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YC &amp; YF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enggalang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= General  Clas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YB &amp; YE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enegak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= Advance Clas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362320" y="974880"/>
            <a:ext cx="464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0319"/>
                </a:solidFill>
                <a:latin typeface="Tahoma"/>
              </a:rPr>
              <a:t>INDONES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" y="19051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EFI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8458200" cy="42242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CALLSIGN AMATIR RADIO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" y="259884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WILAYAH RADIO AMATIR = CALL AREA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362320" y="974880"/>
            <a:ext cx="464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0319"/>
                </a:solidFill>
                <a:latin typeface="Tahoma"/>
              </a:rPr>
              <a:t>INDONES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19051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EFI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800"/>
                            </p:stCondLst>
                            <p:childTnLst>
                              <p:par>
                                <p:cTn id="15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7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CALLSIGN AMATIR RADIO</a:t>
            </a:r>
            <a:br>
              <a:rPr sz="4000"/>
            </a:b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INDONES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8600" y="19051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UFFI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259092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c06"/>
                </a:solidFill>
                <a:latin typeface="Tahoma"/>
              </a:rPr>
              <a:t>A s/d Z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AR KHUSUS dgn rekomendasi ORARI Pus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04920" y="3505320"/>
            <a:ext cx="67816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c06"/>
                </a:solidFill>
                <a:latin typeface="Tahoma"/>
              </a:rPr>
              <a:t>ZA s/d ZZ   &amp;   ZAA s/d ZZZ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AR KHUS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04920" y="5484960"/>
            <a:ext cx="853416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90319"/>
                </a:solidFill>
                <a:latin typeface="Tahoma"/>
              </a:rPr>
              <a:t>QAA s/d QZZ, SOS, TTT, XXX, DDD</a:t>
            </a:r>
            <a:r>
              <a:rPr b="1" lang="en-US" sz="3200" spc="-1" strike="noStrike">
                <a:solidFill>
                  <a:srgbClr val="e90319"/>
                </a:solidFill>
                <a:latin typeface="Tahoma"/>
              </a:rPr>
              <a:t>                  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IDAK DIALOKASIK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04920" y="4465800"/>
            <a:ext cx="86104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c06"/>
                </a:solidFill>
                <a:latin typeface="Tahoma"/>
              </a:rPr>
              <a:t>AA s/d AZ,  AAA s/d PZZ,  RAA s/d YZZ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AR PERORANG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28600" y="2514600"/>
            <a:ext cx="8686800" cy="99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238880" y="2133720"/>
            <a:ext cx="1676520" cy="4495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486400" y="2133720"/>
            <a:ext cx="1676520" cy="4495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495680" y="1752480"/>
            <a:ext cx="947880" cy="487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343240" y="1752480"/>
            <a:ext cx="2090520" cy="487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1752480"/>
            <a:ext cx="2057400" cy="487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CALLSIGN AMATIR RADIO</a:t>
            </a:r>
            <a:br>
              <a:rPr sz="4000"/>
            </a:b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INDONES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04920" y="2590920"/>
            <a:ext cx="8686800" cy="9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AKARTA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Ø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AA - Z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A - 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AAA - PZZ          ZAA - Z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A - YZZ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2280" y="1752480"/>
            <a:ext cx="883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PROPINSI               PREFIX                WRA                     SUFFIX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IAR             IAR KHUS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486400" y="1752480"/>
            <a:ext cx="342900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4920" y="358128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ABA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AA - Q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A - Z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AAA - PZZ          ZAA - ZQ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" y="3505320"/>
            <a:ext cx="868680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4920" y="426708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NTEN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RA - Y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R - 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RAA - YZZ          ZRA - Z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" y="4191120"/>
            <a:ext cx="868680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4952880"/>
            <a:ext cx="8686800" cy="9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ATENG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AA - Z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A - Z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AAA - PZZ          ZAA - ZT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A - TZZ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28600" y="4876920"/>
            <a:ext cx="8686800" cy="99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28600" y="598644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.I.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UA - Y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U - 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UAA - YZZ          ZUA - Z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28600" y="2514600"/>
            <a:ext cx="8686800" cy="99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238880" y="2133720"/>
            <a:ext cx="1676520" cy="472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486400" y="2133720"/>
            <a:ext cx="1676520" cy="472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495680" y="1752480"/>
            <a:ext cx="947880" cy="510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343240" y="1752480"/>
            <a:ext cx="2090520" cy="510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" y="1752480"/>
            <a:ext cx="2057400" cy="510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CALLSIGN AMATIR RADIO</a:t>
            </a:r>
            <a:br>
              <a:rPr sz="4000"/>
            </a:br>
            <a:r>
              <a:rPr b="1" lang="en-US" sz="4000" spc="-1" strike="noStrike">
                <a:solidFill>
                  <a:srgbClr val="e90319"/>
                </a:solidFill>
                <a:latin typeface="Arial"/>
              </a:rPr>
              <a:t>INDONES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2590920"/>
            <a:ext cx="8686800" cy="9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ATIM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AA - Z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A - 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AAA - PZZ          ZAA - Z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A - YZZ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52280" y="1752480"/>
            <a:ext cx="883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PROPINSI               PREFIX                WRA                     SUFFIX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cfc06"/>
                </a:solidFill>
                <a:latin typeface="Tahoma"/>
              </a:rPr>
              <a:t>IAR             IAR KHUS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86400" y="1752480"/>
            <a:ext cx="342900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358128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AMB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YH, YD, YC, YB          4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AA - E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A - 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AAA - EZZ          ZAA - ZE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3505320"/>
            <a:ext cx="868680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04920" y="426708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H, YD, YC, Y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FA - I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MSE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4            FAA - IZZ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" y="4191120"/>
            <a:ext cx="8686800" cy="1295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28600" y="490536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D, YC, Y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JA - L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F - Z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AA - LZZ          ZFA - ZL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0" y="484812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486400" y="484812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28600" y="5486400"/>
            <a:ext cx="8686800" cy="1371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551016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FA - I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F - Z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BE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4            FAA - IZZ          ZFA - ZI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28600" y="6167520"/>
            <a:ext cx="8686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H, YG, YF, Y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JA - L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AA - L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0" y="609588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486400" y="609588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50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6T04:32:59Z</dcterms:created>
  <dc:creator>.</dc:creator>
  <dc:description/>
  <dc:language>en-US</dc:language>
  <cp:lastModifiedBy>Ir. Iskandar A.Q. SALEH</cp:lastModifiedBy>
  <dcterms:modified xsi:type="dcterms:W3CDTF">2004-05-07T05:10:28Z</dcterms:modified>
  <cp:revision>9</cp:revision>
  <dc:subject/>
  <dc:title>Slide 1</dc:title>
</cp:coreProperties>
</file>